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140C-2D49-4458-A437-5DDBE123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09E0-9489-4720-B10A-0B3CD310B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8197-7EA0-4ED7-8875-6D926E61E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A5A7-F0DF-4311-AFDB-75225543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FA28-AED2-4830-BB48-9068C3A4B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34DC-A507-4D45-AF73-EC464F926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17C9-F015-4CB8-82CF-D246EAB87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12D9-E7E7-42B3-87C7-69D995644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1BB2-3B40-45B1-A039-30541F842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2F7F-B848-43C5-9212-BB208C0C8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68CA-4D24-421D-A872-2F640FDF6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3627-0062-4399-9EA6-1F8B0E2D0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1E99E31-414B-458B-A02C-B7A282CC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Greedy Algorithms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4F06" descr=""/>
          <p:cNvPicPr/>
          <p:nvPr/>
        </p:nvPicPr>
        <p:blipFill>
          <a:blip r:embed="rId2"/>
          <a:stretch/>
        </p:blipFill>
        <p:spPr>
          <a:xfrm>
            <a:off x="1041480" y="457200"/>
            <a:ext cx="7772400" cy="56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E27D-B3A8-48D2-9519-0506F94894E4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kleinberg_04a04p133" descr=""/>
          <p:cNvPicPr/>
          <p:nvPr/>
        </p:nvPicPr>
        <p:blipFill>
          <a:blip r:embed="rId2"/>
          <a:stretch/>
        </p:blipFill>
        <p:spPr>
          <a:xfrm>
            <a:off x="1066680" y="2482920"/>
            <a:ext cx="7772400" cy="1098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4, page 13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A7FE-825B-4933-A6C4-337864A4A7A7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04a05p138" descr=""/>
          <p:cNvPicPr/>
          <p:nvPr/>
        </p:nvPicPr>
        <p:blipFill>
          <a:blip r:embed="rId2"/>
          <a:stretch/>
        </p:blipFill>
        <p:spPr>
          <a:xfrm>
            <a:off x="1079640" y="19810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5, page 13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B4BE-F52D-4624-8131-7DEA7B7DFC26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leinberg_04F07" descr=""/>
          <p:cNvPicPr/>
          <p:nvPr/>
        </p:nvPicPr>
        <p:blipFill>
          <a:blip r:embed="rId2"/>
          <a:stretch/>
        </p:blipFill>
        <p:spPr>
          <a:xfrm>
            <a:off x="1041480" y="628560"/>
            <a:ext cx="7772400" cy="50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522A-3DDE-4338-9636-74985A69BB1E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4F08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772400" cy="340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B5C9-1A23-4C90-B7EA-6CF72AE41D40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04F09" descr=""/>
          <p:cNvPicPr/>
          <p:nvPr/>
        </p:nvPicPr>
        <p:blipFill>
          <a:blip r:embed="rId2"/>
          <a:stretch/>
        </p:blipFill>
        <p:spPr>
          <a:xfrm>
            <a:off x="1015920" y="617400"/>
            <a:ext cx="7772400" cy="524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98AA-284A-4E04-B031-19617CCF96F5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04F10" descr=""/>
          <p:cNvPicPr/>
          <p:nvPr/>
        </p:nvPicPr>
        <p:blipFill>
          <a:blip r:embed="rId2"/>
          <a:stretch/>
        </p:blipFill>
        <p:spPr>
          <a:xfrm>
            <a:off x="1066680" y="487440"/>
            <a:ext cx="7772400" cy="56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1431-6D1C-44D2-A3B3-ACD6FF7DEB6B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leinberg_04F11" descr=""/>
          <p:cNvPicPr/>
          <p:nvPr/>
        </p:nvPicPr>
        <p:blipFill>
          <a:blip r:embed="rId2"/>
          <a:stretch/>
        </p:blipFill>
        <p:spPr>
          <a:xfrm>
            <a:off x="977760" y="1030320"/>
            <a:ext cx="8001000" cy="453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5A9B-0D1F-4E3C-B756-00680EB8527F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04F12" descr=""/>
          <p:cNvPicPr/>
          <p:nvPr/>
        </p:nvPicPr>
        <p:blipFill>
          <a:blip r:embed="rId2"/>
          <a:stretch/>
        </p:blipFill>
        <p:spPr>
          <a:xfrm>
            <a:off x="990720" y="1174680"/>
            <a:ext cx="7924680" cy="43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625A-8592-4BE8-A700-32D7BF57C024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04F13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912080" cy="37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8B77-D372-473A-B18B-3FF74562090F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4F01" descr=""/>
          <p:cNvPicPr/>
          <p:nvPr/>
        </p:nvPicPr>
        <p:blipFill>
          <a:blip r:embed="rId2"/>
          <a:stretch/>
        </p:blipFill>
        <p:spPr>
          <a:xfrm>
            <a:off x="1447920" y="895320"/>
            <a:ext cx="6933960" cy="52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1BE8-D2A8-4A2A-AA13-EA90E55041B8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kleinberg_04F14" descr=""/>
          <p:cNvPicPr/>
          <p:nvPr/>
        </p:nvPicPr>
        <p:blipFill>
          <a:blip r:embed="rId2"/>
          <a:stretch/>
        </p:blipFill>
        <p:spPr>
          <a:xfrm>
            <a:off x="1066680" y="343080"/>
            <a:ext cx="76312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E857-09BD-4DF4-BC69-5B9470D0177A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kleinberg_04F15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772400" cy="50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13C7-6889-4A40-BDB8-B2B324AB8BBB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leinberg_04F16" descr=""/>
          <p:cNvPicPr/>
          <p:nvPr/>
        </p:nvPicPr>
        <p:blipFill>
          <a:blip r:embed="rId2"/>
          <a:stretch/>
        </p:blipFill>
        <p:spPr>
          <a:xfrm>
            <a:off x="1600200" y="343080"/>
            <a:ext cx="659304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9C14-82D8-4F1A-8B5A-113E914A56DA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leinberg_04F17" descr=""/>
          <p:cNvPicPr/>
          <p:nvPr/>
        </p:nvPicPr>
        <p:blipFill>
          <a:blip r:embed="rId2"/>
          <a:stretch/>
        </p:blipFill>
        <p:spPr>
          <a:xfrm>
            <a:off x="1092240" y="838080"/>
            <a:ext cx="7772400" cy="45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18FF-C7A4-4988-8330-278F760E1C96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leinberg_04a06p172" descr=""/>
          <p:cNvPicPr/>
          <p:nvPr/>
        </p:nvPicPr>
        <p:blipFill>
          <a:blip r:embed="rId2"/>
          <a:stretch/>
        </p:blipFill>
        <p:spPr>
          <a:xfrm>
            <a:off x="1054080" y="1874880"/>
            <a:ext cx="7772400" cy="4221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6, page 17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61D7-50F1-4F03-8EBB-F4F3045A75F5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leinberg_04F18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772400" cy="470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E17C-7DA9-4AB1-9BE2-B6AC4999CA91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leinberg_04F19" descr=""/>
          <p:cNvPicPr/>
          <p:nvPr/>
        </p:nvPicPr>
        <p:blipFill>
          <a:blip r:embed="rId2"/>
          <a:stretch/>
        </p:blipFill>
        <p:spPr>
          <a:xfrm>
            <a:off x="1041480" y="990720"/>
            <a:ext cx="7772400" cy="468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A303-B8AB-4DEA-A839-B2013384391E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kleinberg_04a07p181" descr=""/>
          <p:cNvPicPr/>
          <p:nvPr/>
        </p:nvPicPr>
        <p:blipFill>
          <a:blip r:embed="rId2"/>
          <a:stretch/>
        </p:blipFill>
        <p:spPr>
          <a:xfrm>
            <a:off x="1066680" y="1933560"/>
            <a:ext cx="7772400" cy="3933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7, page 18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4FDF-1421-410E-8212-9B0201D09AF5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kleinberg_04F20ex24" descr=""/>
          <p:cNvPicPr/>
          <p:nvPr/>
        </p:nvPicPr>
        <p:blipFill>
          <a:blip r:embed="rId2"/>
          <a:stretch/>
        </p:blipFill>
        <p:spPr>
          <a:xfrm>
            <a:off x="1015920" y="1790640"/>
            <a:ext cx="7772400" cy="3543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23, page 20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995D-48CD-46E0-AF89-ADBB2A1031C1}" type="slidenum">
              <a:t>28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4a01p118" descr=""/>
          <p:cNvPicPr/>
          <p:nvPr/>
        </p:nvPicPr>
        <p:blipFill>
          <a:blip r:embed="rId2"/>
          <a:stretch/>
        </p:blipFill>
        <p:spPr>
          <a:xfrm>
            <a:off x="1066680" y="2087640"/>
            <a:ext cx="7772400" cy="2712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1, page 11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2E17-53F5-42B8-A032-39FD50E1D3C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4F02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77240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DE5D-987E-4541-8886-68A6C986F112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1930320"/>
            <a:ext cx="7848360" cy="25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8E05-13BC-49B0-83A6-02FF1D07B07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4F04" descr=""/>
          <p:cNvPicPr/>
          <p:nvPr/>
        </p:nvPicPr>
        <p:blipFill>
          <a:blip r:embed="rId2"/>
          <a:stretch/>
        </p:blipFill>
        <p:spPr>
          <a:xfrm>
            <a:off x="952560" y="914400"/>
            <a:ext cx="8077320" cy="49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B69A-64D2-4868-A064-6E1A69C49C20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4a02p124" descr=""/>
          <p:cNvPicPr/>
          <p:nvPr/>
        </p:nvPicPr>
        <p:blipFill>
          <a:blip r:embed="rId2"/>
          <a:stretch/>
        </p:blipFill>
        <p:spPr>
          <a:xfrm>
            <a:off x="1041480" y="1927080"/>
            <a:ext cx="7772400" cy="3945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2, page 12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FB4-4AD2-41B6-923B-75F53BECFD3A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04F05" descr=""/>
          <p:cNvPicPr/>
          <p:nvPr/>
        </p:nvPicPr>
        <p:blipFill>
          <a:blip r:embed="rId2"/>
          <a:stretch/>
        </p:blipFill>
        <p:spPr>
          <a:xfrm>
            <a:off x="1015920" y="736560"/>
            <a:ext cx="77724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4C07-909E-4A51-868A-BAA2E2A83B7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4a03p127" descr=""/>
          <p:cNvPicPr/>
          <p:nvPr/>
        </p:nvPicPr>
        <p:blipFill>
          <a:blip r:embed="rId2"/>
          <a:stretch/>
        </p:blipFill>
        <p:spPr>
          <a:xfrm>
            <a:off x="1066680" y="2141640"/>
            <a:ext cx="7772400" cy="296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4.3, page 12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D974-2704-400D-9865-0DCAD6341CF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3:44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5:01Z</dcterms:modified>
  <cp:revision>39</cp:revision>
  <dc:subject/>
  <dc:title>Chapter 3</dc:title>
</cp:coreProperties>
</file>