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1F4F-E4A9-4726-A4CF-69F65EFD2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E0BF-6659-42F7-BC9A-46E11978B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1855-D66C-4A5B-9735-9C31FC949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1E64-AAD5-453D-BA66-B3A8FFC20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653E-C8A9-4FFA-A991-8276AA750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1196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280" y="198108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1196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280" y="4130640"/>
            <a:ext cx="24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BA7D-08FD-43DA-B176-A34ABD03E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1B1D4-5CC4-420B-827A-A8715C539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3AE1-14B3-4049-8623-09711106E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207D1-E6FC-414F-B6DC-E90995700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3A84-60DD-4CF3-9EE2-12342A743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6760" y="413064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2DC11-ED46-4BEA-93C8-EE2326841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6760" y="1981080"/>
            <a:ext cx="370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9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5E46-6BFB-4BA2-AF46-57CA73CDE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5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7A025A42-C143-48DD-8934-8ACA86CE1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4264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19280" y="762120"/>
            <a:ext cx="3543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219280" y="1828800"/>
            <a:ext cx="3543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7766"/>
                </a:solidFill>
                <a:latin typeface="Arial"/>
              </a:rPr>
              <a:t>Introduction: Some Representative Problems</a:t>
            </a:r>
            <a:endParaRPr b="0" lang="en-US" sz="3200" spc="-1" strike="noStrike">
              <a:solidFill>
                <a:srgbClr val="8c77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kleinberg_01a02p006se02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6400800" cy="4710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.2, </a:t>
            </a:r>
            <a:br>
              <a:rPr sz="3600"/>
            </a:b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Solved Exercise 2, p. 21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B48C-8526-4BB6-BD4C-D7C5D123191E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kleinberg_01F08ex07" descr=""/>
          <p:cNvPicPr/>
          <p:nvPr/>
        </p:nvPicPr>
        <p:blipFill>
          <a:blip r:embed="rId2"/>
          <a:stretch/>
        </p:blipFill>
        <p:spPr>
          <a:xfrm>
            <a:off x="1981080" y="1486080"/>
            <a:ext cx="5410440" cy="4762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Exercise 7, p. 27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8C132-E645-4426-9620-06060205541C}" type="slidenum">
              <a:t>11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kleinberg_01F01" descr=""/>
          <p:cNvPicPr/>
          <p:nvPr/>
        </p:nvPicPr>
        <p:blipFill>
          <a:blip r:embed="rId2"/>
          <a:stretch/>
        </p:blipFill>
        <p:spPr>
          <a:xfrm>
            <a:off x="3048120" y="609480"/>
            <a:ext cx="347976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1048-60D4-4208-858F-DFA8254C3DDB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kleinberg_01F02" descr=""/>
          <p:cNvPicPr/>
          <p:nvPr/>
        </p:nvPicPr>
        <p:blipFill>
          <a:blip r:embed="rId2"/>
          <a:stretch/>
        </p:blipFill>
        <p:spPr>
          <a:xfrm>
            <a:off x="3287880" y="533520"/>
            <a:ext cx="280800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DFEC-2C43-48EF-9A12-6A715C6E8691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leinberg_01a01p006" descr=""/>
          <p:cNvPicPr/>
          <p:nvPr/>
        </p:nvPicPr>
        <p:blipFill>
          <a:blip r:embed="rId2"/>
          <a:stretch/>
        </p:blipFill>
        <p:spPr>
          <a:xfrm>
            <a:off x="1727280" y="1558800"/>
            <a:ext cx="6121440" cy="4735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7766"/>
                </a:solidFill>
                <a:latin typeface="Arial"/>
              </a:rPr>
              <a:t>Algorithm 1.1, p. 6</a:t>
            </a:r>
            <a:endParaRPr b="1" lang="en-US" sz="3600" spc="-1" strike="noStrike">
              <a:solidFill>
                <a:srgbClr val="8c77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6986A-5C9A-4413-A85E-A590A454FDC7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kleinberg_01F03" descr=""/>
          <p:cNvPicPr/>
          <p:nvPr/>
        </p:nvPicPr>
        <p:blipFill>
          <a:blip r:embed="rId2"/>
          <a:stretch/>
        </p:blipFill>
        <p:spPr>
          <a:xfrm>
            <a:off x="3200400" y="457200"/>
            <a:ext cx="3029040" cy="582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80DB-5ED5-4F0C-960C-9096BECF0F0A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kleinberg_01F04" descr=""/>
          <p:cNvPicPr/>
          <p:nvPr/>
        </p:nvPicPr>
        <p:blipFill>
          <a:blip r:embed="rId2"/>
          <a:stretch/>
        </p:blipFill>
        <p:spPr>
          <a:xfrm>
            <a:off x="990720" y="2057400"/>
            <a:ext cx="7772400" cy="271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F342-15E3-49DF-9FB2-5D32234D1863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leinberg_01F05" descr=""/>
          <p:cNvPicPr/>
          <p:nvPr/>
        </p:nvPicPr>
        <p:blipFill>
          <a:blip r:embed="rId2"/>
          <a:stretch/>
        </p:blipFill>
        <p:spPr>
          <a:xfrm>
            <a:off x="2379600" y="533520"/>
            <a:ext cx="470700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F23B-E705-40B5-8456-4A1ADD0A3E0B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kleinberg_01F06" descr=""/>
          <p:cNvPicPr/>
          <p:nvPr/>
        </p:nvPicPr>
        <p:blipFill>
          <a:blip r:embed="rId2"/>
          <a:stretch/>
        </p:blipFill>
        <p:spPr>
          <a:xfrm>
            <a:off x="2274840" y="457200"/>
            <a:ext cx="4735440" cy="582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67B5-C8BB-4256-8958-2150DBC19CE6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kleinberg_01F07" descr=""/>
          <p:cNvPicPr/>
          <p:nvPr/>
        </p:nvPicPr>
        <p:blipFill>
          <a:blip r:embed="rId2"/>
          <a:stretch/>
        </p:blipFill>
        <p:spPr>
          <a:xfrm>
            <a:off x="990720" y="2514600"/>
            <a:ext cx="7772400" cy="146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8819-B44B-4F9D-8C6A-F4657D6B662D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0:11:45Z</dcterms:created>
  <dc:creator>mark temelko</dc:creator>
  <dc:description/>
  <dc:language>en-US</dc:language>
  <cp:lastModifiedBy>mark temelko</cp:lastModifiedBy>
  <cp:lastPrinted>2001-07-20T01:09:35Z</cp:lastPrinted>
  <dcterms:modified xsi:type="dcterms:W3CDTF">2005-03-04T20:27:19Z</dcterms:modified>
  <cp:revision>10</cp:revision>
  <dc:subject/>
  <dc:title>Chapter 1</dc:title>
</cp:coreProperties>
</file>