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B2DE-F7D0-49F3-B3E7-AFE2622A2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CE7C-5A1A-4ED3-A364-12236680C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1964-951E-4ED8-BB94-78A9F1F00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FA1A-279A-46FF-A247-2345ADF53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4DFF-A6A8-4F3B-ACF7-7A2042825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D93E-4CD4-4880-8CD6-BB80E7734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5F0B-2331-453F-90C5-C64B92D66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625E-8D66-4EE0-B967-109AC0DD9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288D-CDB3-4CC6-AE32-2865097BB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17B3-63FC-43CD-9642-0EA77B978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8562-2296-4496-90EA-7416A10DB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9069-FEC8-4E05-A40F-138FD0AC4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F83E6751-BD2B-4597-9AC4-898B8D82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Approximation Algorithms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11a04p611" descr=""/>
          <p:cNvPicPr/>
          <p:nvPr/>
        </p:nvPicPr>
        <p:blipFill>
          <a:blip r:embed="rId2"/>
          <a:stretch/>
        </p:blipFill>
        <p:spPr>
          <a:xfrm>
            <a:off x="1219320" y="2421000"/>
            <a:ext cx="7543800" cy="2352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4, page 61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31AC-FE1B-465A-A6EA-CC8EC4550B14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11a05p613" descr=""/>
          <p:cNvPicPr/>
          <p:nvPr/>
        </p:nvPicPr>
        <p:blipFill>
          <a:blip r:embed="rId2"/>
          <a:stretch/>
        </p:blipFill>
        <p:spPr>
          <a:xfrm>
            <a:off x="1181160" y="2317680"/>
            <a:ext cx="7467480" cy="23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5, page 61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3CFF-6E1D-4A6D-8CBE-193D46BF2B34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leinberg_11F06" descr=""/>
          <p:cNvPicPr/>
          <p:nvPr/>
        </p:nvPicPr>
        <p:blipFill>
          <a:blip r:embed="rId2"/>
          <a:stretch/>
        </p:blipFill>
        <p:spPr>
          <a:xfrm>
            <a:off x="2408400" y="457200"/>
            <a:ext cx="496728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EFDA-6A47-4515-8A9C-290544A8D6CB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leinberg_11a06p615" descr=""/>
          <p:cNvPicPr/>
          <p:nvPr/>
        </p:nvPicPr>
        <p:blipFill>
          <a:blip r:embed="rId2"/>
          <a:stretch/>
        </p:blipFill>
        <p:spPr>
          <a:xfrm>
            <a:off x="1143000" y="2657520"/>
            <a:ext cx="7620120" cy="507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6, page 61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F97F-B2DC-41E3-8BC0-731F918EB579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leinberg_11F07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467480" cy="368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C3E2-AB24-4A33-AE80-CBA998CF0EE3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11a07p621" descr=""/>
          <p:cNvPicPr/>
          <p:nvPr/>
        </p:nvPicPr>
        <p:blipFill>
          <a:blip r:embed="rId2"/>
          <a:stretch/>
        </p:blipFill>
        <p:spPr>
          <a:xfrm>
            <a:off x="1219320" y="2171880"/>
            <a:ext cx="7467480" cy="262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7, page 62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CC0B-F678-4806-AA20-4A664894C603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11F08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6858000" cy="555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D667-4EE3-40FD-907A-A70E30F29561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leinberg_11F09" descr=""/>
          <p:cNvPicPr/>
          <p:nvPr/>
        </p:nvPicPr>
        <p:blipFill>
          <a:blip r:embed="rId2"/>
          <a:stretch/>
        </p:blipFill>
        <p:spPr>
          <a:xfrm>
            <a:off x="1092240" y="2057400"/>
            <a:ext cx="7543800" cy="207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9EC1-BA96-43B9-82AF-B7DB92341BD2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kleinberg_11a08p626" descr=""/>
          <p:cNvPicPr/>
          <p:nvPr/>
        </p:nvPicPr>
        <p:blipFill>
          <a:blip r:embed="rId2"/>
          <a:stretch/>
        </p:blipFill>
        <p:spPr>
          <a:xfrm>
            <a:off x="1168560" y="2138400"/>
            <a:ext cx="7543800" cy="2657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8, page 62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B348-1064-4CAB-BE3F-08989DBB0125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leinberg_11a09p628" descr=""/>
          <p:cNvPicPr/>
          <p:nvPr/>
        </p:nvPicPr>
        <p:blipFill>
          <a:blip r:embed="rId2"/>
          <a:stretch/>
        </p:blipFill>
        <p:spPr>
          <a:xfrm>
            <a:off x="1219320" y="2077920"/>
            <a:ext cx="7315200" cy="3179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9, page 62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256B-634C-47C9-9388-A21FD0A3FE82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11a01p601" descr=""/>
          <p:cNvPicPr/>
          <p:nvPr/>
        </p:nvPicPr>
        <p:blipFill>
          <a:blip r:embed="rId2"/>
          <a:stretch/>
        </p:blipFill>
        <p:spPr>
          <a:xfrm>
            <a:off x="1219320" y="2170080"/>
            <a:ext cx="7467480" cy="2935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1, page 60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1267-F2D8-4608-81DA-40146DFF6DC1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kleinberg_11F10" descr=""/>
          <p:cNvPicPr/>
          <p:nvPr/>
        </p:nvPicPr>
        <p:blipFill>
          <a:blip r:embed="rId2"/>
          <a:stretch/>
        </p:blipFill>
        <p:spPr>
          <a:xfrm>
            <a:off x="1752480" y="581040"/>
            <a:ext cx="5943600" cy="545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99DF-E6C7-45CE-BCC5-3A80AAFC1BA7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leinberg_11F11" descr=""/>
          <p:cNvPicPr/>
          <p:nvPr/>
        </p:nvPicPr>
        <p:blipFill>
          <a:blip r:embed="rId2"/>
          <a:stretch/>
        </p:blipFill>
        <p:spPr>
          <a:xfrm>
            <a:off x="1752480" y="473040"/>
            <a:ext cx="6350040" cy="559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3473-3175-4DFF-B0BD-3D73E4095BB2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leinberg_11F12" descr=""/>
          <p:cNvPicPr/>
          <p:nvPr/>
        </p:nvPicPr>
        <p:blipFill>
          <a:blip r:embed="rId2"/>
          <a:stretch/>
        </p:blipFill>
        <p:spPr>
          <a:xfrm>
            <a:off x="1219320" y="469800"/>
            <a:ext cx="7302240" cy="548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3A72-A63C-4343-9817-1A6747B6FAC3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leinberg_11a10p646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620120" cy="1436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10, page 64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834E-672C-47CE-B1A9-E155CCAB5B5F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kleinberg_11a11p648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477120" cy="4335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11, page 64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0415-B249-445B-9544-F6761BC31210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kleinberg_11a12p652ex03" descr=""/>
          <p:cNvPicPr/>
          <p:nvPr/>
        </p:nvPicPr>
        <p:blipFill>
          <a:blip r:embed="rId2"/>
          <a:stretch/>
        </p:blipFill>
        <p:spPr>
          <a:xfrm>
            <a:off x="1168560" y="2146320"/>
            <a:ext cx="7543800" cy="3111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12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3, page 65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E605-C48B-40FD-A509-DD89FFE7D069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kleinberg_11F13ex10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922560" cy="4343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0, page 65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5927-D031-49E4-AD6D-BEF7B4632A1D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kleinberg_11a13p657ex10" descr=""/>
          <p:cNvPicPr/>
          <p:nvPr/>
        </p:nvPicPr>
        <p:blipFill>
          <a:blip r:embed="rId2"/>
          <a:stretch/>
        </p:blipFill>
        <p:spPr>
          <a:xfrm>
            <a:off x="1206360" y="2154240"/>
            <a:ext cx="7391520" cy="2786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13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0, page 65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0EA8-1567-4AC3-B441-C66D493950F8}" type="slidenum">
              <a:t>27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11F01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543800" cy="333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52AB-31AC-4DAE-B43A-F9F574C47A9A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11F02" descr=""/>
          <p:cNvPicPr/>
          <p:nvPr/>
        </p:nvPicPr>
        <p:blipFill>
          <a:blip r:embed="rId2"/>
          <a:stretch/>
        </p:blipFill>
        <p:spPr>
          <a:xfrm>
            <a:off x="1168560" y="1219320"/>
            <a:ext cx="7467480" cy="394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3590-9D06-4A25-B3AE-BC1571961BF4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11F03" descr=""/>
          <p:cNvPicPr/>
          <p:nvPr/>
        </p:nvPicPr>
        <p:blipFill>
          <a:blip r:embed="rId2"/>
          <a:stretch/>
        </p:blipFill>
        <p:spPr>
          <a:xfrm>
            <a:off x="1206360" y="1457280"/>
            <a:ext cx="7162920" cy="34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6E63-B2CE-42A7-B576-EB9A42FE8866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11a02p605" descr=""/>
          <p:cNvPicPr/>
          <p:nvPr/>
        </p:nvPicPr>
        <p:blipFill>
          <a:blip r:embed="rId2"/>
          <a:stretch/>
        </p:blipFill>
        <p:spPr>
          <a:xfrm>
            <a:off x="1219320" y="2127240"/>
            <a:ext cx="7391160" cy="3511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2, page 60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11CF-2B5D-467C-A5DF-18B974BCD936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11F04" descr=""/>
          <p:cNvPicPr/>
          <p:nvPr/>
        </p:nvPicPr>
        <p:blipFill>
          <a:blip r:embed="rId2"/>
          <a:stretch/>
        </p:blipFill>
        <p:spPr>
          <a:xfrm>
            <a:off x="1193760" y="939960"/>
            <a:ext cx="7315200" cy="455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0ACF-033E-488E-95B4-DE99B6A374E9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11a03p608" descr=""/>
          <p:cNvPicPr/>
          <p:nvPr/>
        </p:nvPicPr>
        <p:blipFill>
          <a:blip r:embed="rId2"/>
          <a:stretch/>
        </p:blipFill>
        <p:spPr>
          <a:xfrm>
            <a:off x="1219320" y="2036880"/>
            <a:ext cx="7238880" cy="4135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1.3, page 60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78F7-CF70-406D-97A3-499ACE4D34A0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leinberg_11F05" descr=""/>
          <p:cNvPicPr/>
          <p:nvPr/>
        </p:nvPicPr>
        <p:blipFill>
          <a:blip r:embed="rId2"/>
          <a:stretch/>
        </p:blipFill>
        <p:spPr>
          <a:xfrm>
            <a:off x="1231920" y="838080"/>
            <a:ext cx="7315200" cy="47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CAFF-EF2E-4850-BB6E-91E2F491A75D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8T00:03:04Z</dcterms:modified>
  <cp:revision>88</cp:revision>
  <dc:subject/>
  <dc:title>Chapter 1</dc:title>
</cp:coreProperties>
</file>