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509C-89A8-4806-B745-EBED72A19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EA07-4D9E-4727-B213-AD4090DAC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00B3-2CB0-41D1-AC42-35CFCF804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25DC-1827-4ACA-8FED-8C89099A0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2009-7B22-4D25-BDAD-E165361E7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45D1-6AD4-4E97-8D70-2CA4BB980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E037-A785-4D9E-ADE8-338B6E900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6D6B-9743-4917-90AA-11918C2DF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2417-94DD-411B-8EF4-FDDEBE95F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1747-E0F5-490B-A9C2-13D0C383F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D5D4-6ADE-47B9-9D46-B24CF8D5C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FF0D-0355-46C0-9997-36D1AB613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A16942D-B1D2-494A-B171-32D8F84E7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c7766"/>
                </a:solidFill>
                <a:latin typeface="Arial"/>
              </a:rPr>
              <a:t>Basics of </a:t>
            </a:r>
            <a:br>
              <a:rPr sz="3000"/>
            </a:br>
            <a:r>
              <a:rPr b="0" lang="en-US" sz="3000" spc="-1" strike="noStrike">
                <a:solidFill>
                  <a:srgbClr val="8c7766"/>
                </a:solidFill>
                <a:latin typeface="Arial"/>
              </a:rPr>
              <a:t>Algorithm Analysis</a:t>
            </a:r>
            <a:endParaRPr b="0" lang="en-US" sz="30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kleinberg_02a06p053" descr=""/>
          <p:cNvPicPr/>
          <p:nvPr/>
        </p:nvPicPr>
        <p:blipFill>
          <a:blip r:embed="rId2"/>
          <a:stretch/>
        </p:blipFill>
        <p:spPr>
          <a:xfrm>
            <a:off x="990720" y="1849320"/>
            <a:ext cx="7772400" cy="3179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2.6, page 5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6FAA-011B-4C62-A00D-30C9C5961E39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leinberg_02a07p054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7772400" cy="2349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2.7, page 54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B67C-181F-48BA-AD38-F508511731D4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kleinberg_02F03" descr=""/>
          <p:cNvPicPr/>
          <p:nvPr/>
        </p:nvPicPr>
        <p:blipFill>
          <a:blip r:embed="rId2"/>
          <a:stretch/>
        </p:blipFill>
        <p:spPr>
          <a:xfrm>
            <a:off x="1143000" y="1622520"/>
            <a:ext cx="7543800" cy="323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727D-78B7-41B1-B44D-4552798CA221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leinberg_02F04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7645680" cy="35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C286-51D9-481F-8521-DABBF65F3AAB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kleinberg_02a08p061" descr=""/>
          <p:cNvPicPr/>
          <p:nvPr/>
        </p:nvPicPr>
        <p:blipFill>
          <a:blip r:embed="rId2"/>
          <a:stretch/>
        </p:blipFill>
        <p:spPr>
          <a:xfrm>
            <a:off x="1066680" y="1996920"/>
            <a:ext cx="7772400" cy="29559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2.8, page 61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3DA4-4123-4D48-9363-A76ABD670EB5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kleinberg_02F05" descr=""/>
          <p:cNvPicPr/>
          <p:nvPr/>
        </p:nvPicPr>
        <p:blipFill>
          <a:blip r:embed="rId2"/>
          <a:stretch/>
        </p:blipFill>
        <p:spPr>
          <a:xfrm>
            <a:off x="939960" y="1066680"/>
            <a:ext cx="7772400" cy="40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8FA1-221B-46D1-A15A-8B1A573E2548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kleinberg_02a09p063" descr=""/>
          <p:cNvPicPr/>
          <p:nvPr/>
        </p:nvPicPr>
        <p:blipFill>
          <a:blip r:embed="rId2"/>
          <a:stretch/>
        </p:blipFill>
        <p:spPr>
          <a:xfrm>
            <a:off x="1219320" y="1806480"/>
            <a:ext cx="7162560" cy="4365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2.9, page 63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7B2D-D56A-4B3E-8F31-9A3D27A0AC78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kleinberg_02a10p068ex06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7772400" cy="2400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2.10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6, page 6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901D-8646-473E-A617-0C79AA3A5E24}" type="slidenum">
              <a:t>17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02T01" descr=""/>
          <p:cNvPicPr/>
          <p:nvPr/>
        </p:nvPicPr>
        <p:blipFill>
          <a:blip r:embed="rId2"/>
          <a:stretch/>
        </p:blipFill>
        <p:spPr>
          <a:xfrm>
            <a:off x="1066680" y="1501920"/>
            <a:ext cx="7620120" cy="345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233A-5C80-4932-806A-C14862130E40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leinberg_02F01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7543800" cy="364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FA21-07DB-4CE4-8D9F-E21E0DAA211C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leinberg_02a01p048" descr=""/>
          <p:cNvPicPr/>
          <p:nvPr/>
        </p:nvPicPr>
        <p:blipFill>
          <a:blip r:embed="rId2"/>
          <a:stretch/>
        </p:blipFill>
        <p:spPr>
          <a:xfrm>
            <a:off x="1066680" y="2271600"/>
            <a:ext cx="7772400" cy="2376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2.1, page 48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8469-AD1E-48AC-8492-B7BC23A0EB87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kleinberg_02a02p049" descr=""/>
          <p:cNvPicPr/>
          <p:nvPr/>
        </p:nvPicPr>
        <p:blipFill>
          <a:blip r:embed="rId2"/>
          <a:stretch/>
        </p:blipFill>
        <p:spPr>
          <a:xfrm>
            <a:off x="1066680" y="1828800"/>
            <a:ext cx="7772400" cy="3921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2.2, page 49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86FF-D206-4FFB-8DBF-D4C1E0F25659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leinberg_02F02" descr=""/>
          <p:cNvPicPr/>
          <p:nvPr/>
        </p:nvPicPr>
        <p:blipFill>
          <a:blip r:embed="rId2"/>
          <a:stretch/>
        </p:blipFill>
        <p:spPr>
          <a:xfrm>
            <a:off x="1066680" y="1668600"/>
            <a:ext cx="7772400" cy="320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3A20-637E-4BB7-8373-9F1D93492E2B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kleinberg_02a03p051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7772400" cy="2439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2.3, page 51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C607-ADE7-4935-91B1-84472C44F63F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leinberg_02a04p052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7772400" cy="1482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2.4, page 5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4580-D262-447E-A2A2-611F4529FBDC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leinberg_02a05p052" descr=""/>
          <p:cNvPicPr/>
          <p:nvPr/>
        </p:nvPicPr>
        <p:blipFill>
          <a:blip r:embed="rId2"/>
          <a:stretch/>
        </p:blipFill>
        <p:spPr>
          <a:xfrm>
            <a:off x="1003320" y="1976400"/>
            <a:ext cx="7772400" cy="343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2.5, page 52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3D2E-5AAE-4D22-9B76-7168966A6595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22:56:06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4T20:26:46Z</dcterms:modified>
  <cp:revision>11</cp:revision>
  <dc:subject/>
  <dc:title>Chapter 2</dc:title>
</cp:coreProperties>
</file>