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B322-173B-41F1-84A8-A1BF9E1B8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CE73-F5BC-4430-B3AE-6256D9C55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92F2-670C-4A9E-90C2-CFBC00B0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B292-3B1E-43B9-88EE-588AC536B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4F23-303C-48E6-B409-7626FDBE7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7D97-A9BC-43FE-B2D5-CE57F407E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9A99-BC2D-4EB9-BDB1-86CA1E5F2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E45A-4789-4109-A3EF-22172465C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7F16-6ABA-4F72-89CC-6385B554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A35F-995C-45F6-BA4C-249365607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111A-356C-483B-8CE1-1C7A6F9B6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F4B8-FF19-4E58-BB6D-3556158CE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742243F-644F-4014-A075-A64B7BF9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Network Flow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07a03p353" descr=""/>
          <p:cNvPicPr/>
          <p:nvPr/>
        </p:nvPicPr>
        <p:blipFill>
          <a:blip r:embed="rId2"/>
          <a:stretch/>
        </p:blipFill>
        <p:spPr>
          <a:xfrm>
            <a:off x="990720" y="1854360"/>
            <a:ext cx="7772400" cy="444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3, page 35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868A-40EA-4812-8B99-13117F141D78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07F07" descr=""/>
          <p:cNvPicPr/>
          <p:nvPr/>
        </p:nvPicPr>
        <p:blipFill>
          <a:blip r:embed="rId2"/>
          <a:stretch/>
        </p:blipFill>
        <p:spPr>
          <a:xfrm>
            <a:off x="1104840" y="609480"/>
            <a:ext cx="7467840" cy="54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2225-4E5F-457F-A529-B996BA0C3B46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07a04p360" descr=""/>
          <p:cNvPicPr/>
          <p:nvPr/>
        </p:nvPicPr>
        <p:blipFill>
          <a:blip r:embed="rId2"/>
          <a:stretch/>
        </p:blipFill>
        <p:spPr>
          <a:xfrm>
            <a:off x="990720" y="2095560"/>
            <a:ext cx="777240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4, page 36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6D5F-B0B0-45D9-BAC3-D86A7140F19E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07a05p360" descr=""/>
          <p:cNvPicPr/>
          <p:nvPr/>
        </p:nvPicPr>
        <p:blipFill>
          <a:blip r:embed="rId2"/>
          <a:stretch/>
        </p:blipFill>
        <p:spPr>
          <a:xfrm>
            <a:off x="1066680" y="2379600"/>
            <a:ext cx="7772400" cy="1963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5, page 36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27B7-6ED7-42C6-A183-E855A7E23812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7a06p360" descr=""/>
          <p:cNvPicPr/>
          <p:nvPr/>
        </p:nvPicPr>
        <p:blipFill>
          <a:blip r:embed="rId2"/>
          <a:stretch/>
        </p:blipFill>
        <p:spPr>
          <a:xfrm>
            <a:off x="1066680" y="2087640"/>
            <a:ext cx="7772400" cy="3779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6, page 36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9D28-7005-4530-B75D-4366D3010402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07F08" descr=""/>
          <p:cNvPicPr/>
          <p:nvPr/>
        </p:nvPicPr>
        <p:blipFill>
          <a:blip r:embed="rId2"/>
          <a:stretch/>
        </p:blipFill>
        <p:spPr>
          <a:xfrm>
            <a:off x="1130400" y="685800"/>
            <a:ext cx="7467480" cy="522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42FB-5360-4A55-B215-DA25C0C39997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leinberg_07F09" descr=""/>
          <p:cNvPicPr/>
          <p:nvPr/>
        </p:nvPicPr>
        <p:blipFill>
          <a:blip r:embed="rId2"/>
          <a:stretch/>
        </p:blipFill>
        <p:spPr>
          <a:xfrm>
            <a:off x="1041480" y="1295280"/>
            <a:ext cx="7772400" cy="37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379A-17BC-4E38-82A9-28355C175E0E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07F10" descr=""/>
          <p:cNvPicPr/>
          <p:nvPr/>
        </p:nvPicPr>
        <p:blipFill>
          <a:blip r:embed="rId2"/>
          <a:stretch/>
        </p:blipFill>
        <p:spPr>
          <a:xfrm>
            <a:off x="1041480" y="1371600"/>
            <a:ext cx="7772400" cy="374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76D5-8FCC-4A61-8454-DD723F994F44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07F11" descr=""/>
          <p:cNvPicPr/>
          <p:nvPr/>
        </p:nvPicPr>
        <p:blipFill>
          <a:blip r:embed="rId2"/>
          <a:stretch/>
        </p:blipFill>
        <p:spPr>
          <a:xfrm>
            <a:off x="1219320" y="1258920"/>
            <a:ext cx="7404120" cy="387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12BD-3543-4759-A9DD-3B7BB0104915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kleinberg_07F1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7543800" cy="33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4529-0D76-451E-B1F9-3FDF0C508954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7F01" descr=""/>
          <p:cNvPicPr/>
          <p:nvPr/>
        </p:nvPicPr>
        <p:blipFill>
          <a:blip r:embed="rId2"/>
          <a:stretch/>
        </p:blipFill>
        <p:spPr>
          <a:xfrm>
            <a:off x="2187720" y="584280"/>
            <a:ext cx="5203800" cy="55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5A3F-231D-4E1D-B7AB-86134863F6EC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kleinberg_07F13" descr=""/>
          <p:cNvPicPr/>
          <p:nvPr/>
        </p:nvPicPr>
        <p:blipFill>
          <a:blip r:embed="rId2"/>
          <a:stretch/>
        </p:blipFill>
        <p:spPr>
          <a:xfrm>
            <a:off x="914400" y="1438200"/>
            <a:ext cx="7772400" cy="34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EE09-F2CC-4C27-B9ED-DA9BA1FB34DD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leinberg_07F14" descr=""/>
          <p:cNvPicPr/>
          <p:nvPr/>
        </p:nvPicPr>
        <p:blipFill>
          <a:blip r:embed="rId2"/>
          <a:stretch/>
        </p:blipFill>
        <p:spPr>
          <a:xfrm>
            <a:off x="1257480" y="1401840"/>
            <a:ext cx="7315200" cy="336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DDA2-4022-4647-BFA1-CB6527724F46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leinberg_07F15" descr=""/>
          <p:cNvPicPr/>
          <p:nvPr/>
        </p:nvPicPr>
        <p:blipFill>
          <a:blip r:embed="rId2"/>
          <a:stretch/>
        </p:blipFill>
        <p:spPr>
          <a:xfrm>
            <a:off x="1117440" y="846000"/>
            <a:ext cx="7391520" cy="47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03A5-347B-41E0-BFBE-85A010ED9FF9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leinberg_07F16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74674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07D6-FC74-40A9-991C-ED60B30B9208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leinberg_07F17" descr=""/>
          <p:cNvPicPr/>
          <p:nvPr/>
        </p:nvPicPr>
        <p:blipFill>
          <a:blip r:embed="rId2"/>
          <a:stretch/>
        </p:blipFill>
        <p:spPr>
          <a:xfrm>
            <a:off x="1206360" y="990720"/>
            <a:ext cx="7239240" cy="469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0CAF-364F-4B11-A17E-35F5278716E1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leinberg_07F18" descr=""/>
          <p:cNvPicPr/>
          <p:nvPr/>
        </p:nvPicPr>
        <p:blipFill>
          <a:blip r:embed="rId2"/>
          <a:stretch/>
        </p:blipFill>
        <p:spPr>
          <a:xfrm>
            <a:off x="1371600" y="343080"/>
            <a:ext cx="708336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6B5C-C6EF-4724-AF00-F81E7A488F37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leinberg_07F19" descr=""/>
          <p:cNvPicPr/>
          <p:nvPr/>
        </p:nvPicPr>
        <p:blipFill>
          <a:blip r:embed="rId2"/>
          <a:stretch/>
        </p:blipFill>
        <p:spPr>
          <a:xfrm>
            <a:off x="1092240" y="838080"/>
            <a:ext cx="7543800" cy="50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8238-81A2-49A7-A600-32C7A68CC2C5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kleinberg_07F20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5018-0195-4865-8E86-635D31EA5F9D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kleinberg_07F21" descr=""/>
          <p:cNvPicPr/>
          <p:nvPr/>
        </p:nvPicPr>
        <p:blipFill>
          <a:blip r:embed="rId2"/>
          <a:stretch/>
        </p:blipFill>
        <p:spPr>
          <a:xfrm>
            <a:off x="1028880" y="990720"/>
            <a:ext cx="7772400" cy="42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C6C3-EE9E-4120-A942-BEEB63ED39B0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kleinberg_07F22" descr=""/>
          <p:cNvPicPr/>
          <p:nvPr/>
        </p:nvPicPr>
        <p:blipFill>
          <a:blip r:embed="rId2"/>
          <a:stretch/>
        </p:blipFill>
        <p:spPr>
          <a:xfrm>
            <a:off x="1028880" y="1430280"/>
            <a:ext cx="7772400" cy="329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BE6A-4F68-4141-863F-3CAF99A7865A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7F02" descr=""/>
          <p:cNvPicPr/>
          <p:nvPr/>
        </p:nvPicPr>
        <p:blipFill>
          <a:blip r:embed="rId2"/>
          <a:stretch/>
        </p:blipFill>
        <p:spPr>
          <a:xfrm>
            <a:off x="2481120" y="380880"/>
            <a:ext cx="445320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7C51-E8DB-4575-A6F3-A882A634D8F8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kleinberg_07a07p410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772400" cy="2658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7, page 41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27FE-F697-45E5-BEB5-9A018A8722B6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2, page 41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28880" y="1778040"/>
            <a:ext cx="769608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433B-FEC6-44CE-BB76-E19019241E43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kleinberg_07F24ex01a" descr=""/>
          <p:cNvPicPr/>
          <p:nvPr/>
        </p:nvPicPr>
        <p:blipFill>
          <a:blip r:embed="rId2"/>
          <a:stretch/>
        </p:blipFill>
        <p:spPr>
          <a:xfrm>
            <a:off x="2584440" y="1676520"/>
            <a:ext cx="434988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 (a), page 41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CDFF-527E-4A93-9CE4-877AA1CB0C16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kleinberg_07F25ex01b" descr=""/>
          <p:cNvPicPr/>
          <p:nvPr/>
        </p:nvPicPr>
        <p:blipFill>
          <a:blip r:embed="rId2"/>
          <a:stretch/>
        </p:blipFill>
        <p:spPr>
          <a:xfrm>
            <a:off x="2557440" y="1701720"/>
            <a:ext cx="4452840" cy="4546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 (b), page 41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B1C9-FBEE-4B3C-A657-D5DCCD14C3DF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kleinberg_07F26ex02" descr=""/>
          <p:cNvPicPr/>
          <p:nvPr/>
        </p:nvPicPr>
        <p:blipFill>
          <a:blip r:embed="rId2"/>
          <a:stretch/>
        </p:blipFill>
        <p:spPr>
          <a:xfrm>
            <a:off x="1066680" y="1946160"/>
            <a:ext cx="7620120" cy="392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2, page 41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E70B-242D-4BAF-9CB9-C1801D680A5E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leinberg_07F27ex03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620120" cy="3948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, page 41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DCFB-2C8E-42CA-80D2-A9339A5FC297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kleinberg_07F28ex06" descr=""/>
          <p:cNvPicPr/>
          <p:nvPr/>
        </p:nvPicPr>
        <p:blipFill>
          <a:blip r:embed="rId2"/>
          <a:stretch/>
        </p:blipFill>
        <p:spPr>
          <a:xfrm>
            <a:off x="1206360" y="1884240"/>
            <a:ext cx="7315200" cy="426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6, page 41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DD70-339B-4A03-A8E5-58457FE19E75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kleinberg_07F29ex18" descr=""/>
          <p:cNvPicPr/>
          <p:nvPr/>
        </p:nvPicPr>
        <p:blipFill>
          <a:blip r:embed="rId2"/>
          <a:stretch/>
        </p:blipFill>
        <p:spPr>
          <a:xfrm>
            <a:off x="2567160" y="1676520"/>
            <a:ext cx="3909960" cy="459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8, page 42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ED62-79FD-49B8-82EC-4F8227B82582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kleinberg_07F30ex36" descr=""/>
          <p:cNvPicPr/>
          <p:nvPr/>
        </p:nvPicPr>
        <p:blipFill>
          <a:blip r:embed="rId2"/>
          <a:stretch/>
        </p:blipFill>
        <p:spPr>
          <a:xfrm>
            <a:off x="1003320" y="2589120"/>
            <a:ext cx="7772400" cy="2097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6, page 43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CB9F-EF1C-4E4F-98B1-90110B6D8654}" type="slidenum">
              <a:t>38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7F03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772400" cy="336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FCB5-A61F-4676-B5CD-E9A00DE57131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7F04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F2B7-D920-4BC4-A292-1A3C8F51FDB0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7a01p342" descr=""/>
          <p:cNvPicPr/>
          <p:nvPr/>
        </p:nvPicPr>
        <p:blipFill>
          <a:blip r:embed="rId2"/>
          <a:stretch/>
        </p:blipFill>
        <p:spPr>
          <a:xfrm>
            <a:off x="1015920" y="2135160"/>
            <a:ext cx="7772400" cy="350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1, page 34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F4B0-C465-4071-ACF4-1E673DDBFB4D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7a02p344" descr=""/>
          <p:cNvPicPr/>
          <p:nvPr/>
        </p:nvPicPr>
        <p:blipFill>
          <a:blip r:embed="rId2"/>
          <a:stretch/>
        </p:blipFill>
        <p:spPr>
          <a:xfrm>
            <a:off x="1028880" y="2209680"/>
            <a:ext cx="7772400" cy="3162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7.2, page 34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EAC6-0E2D-4DFE-9FC7-54309E132B8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54080" y="647640"/>
            <a:ext cx="7696080" cy="527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59DF-DEDF-4498-8A83-F8EEB30A72D3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7F06" descr=""/>
          <p:cNvPicPr/>
          <p:nvPr/>
        </p:nvPicPr>
        <p:blipFill>
          <a:blip r:embed="rId2"/>
          <a:stretch/>
        </p:blipFill>
        <p:spPr>
          <a:xfrm>
            <a:off x="1828800" y="393840"/>
            <a:ext cx="585792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6032-22EB-48BB-BB7B-641712CADAA8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3:18Z</dcterms:modified>
  <cp:revision>27</cp:revision>
  <dc:subject/>
  <dc:title>Chapter 1</dc:title>
</cp:coreProperties>
</file>