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20.png" ContentType="image/png"/>
  <Override PartName="/ppt/media/image26.png" ContentType="image/png"/>
  <Override PartName="/ppt/media/image63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6A48-2E33-456A-9FF7-1A27BC1A8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8C0E2-5ECF-48AF-92F1-FD6ADC819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A616-3708-4B5D-840D-AF0247A7F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5680-A5B2-4B0B-8430-21430F85A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C701-F59D-44FB-B7AF-574CA3D92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4DF0-7664-4DF7-9A50-C3CED3408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447DC-F50C-4276-974B-348FA85B4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C7FFF-284F-4F90-BF5B-468BB7FEE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86C15-0F9B-4C5B-B86A-60F6B67F6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67BD6-87DE-43BB-909B-1CC95C93B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A1531-8E31-41FA-8392-2BD995296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2D74-B7A0-4F20-9933-4D8893DA8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5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88FA35CC-24BF-4F38-B495-D43A25A1D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219280" y="1828800"/>
            <a:ext cx="3543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Dynamic Programming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kleinberg_06F05" descr=""/>
          <p:cNvPicPr/>
          <p:nvPr/>
        </p:nvPicPr>
        <p:blipFill>
          <a:blip r:embed="rId2"/>
          <a:stretch/>
        </p:blipFill>
        <p:spPr>
          <a:xfrm>
            <a:off x="990720" y="1484280"/>
            <a:ext cx="7772400" cy="346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0F18-2868-4A3D-8E48-5F33038FBD7D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kleinberg_06F06" descr=""/>
          <p:cNvPicPr/>
          <p:nvPr/>
        </p:nvPicPr>
        <p:blipFill>
          <a:blip r:embed="rId2"/>
          <a:stretch/>
        </p:blipFill>
        <p:spPr>
          <a:xfrm>
            <a:off x="1625760" y="533520"/>
            <a:ext cx="5994360" cy="550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1706C-D42D-437E-87B1-86C1C357A7EE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kleinberg_06F07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7467480" cy="494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5E57E-6949-4EDD-9A16-83F7DFF1AED2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kleinberg_06F08" descr=""/>
          <p:cNvPicPr/>
          <p:nvPr/>
        </p:nvPicPr>
        <p:blipFill>
          <a:blip r:embed="rId2"/>
          <a:stretch/>
        </p:blipFill>
        <p:spPr>
          <a:xfrm>
            <a:off x="1219320" y="838080"/>
            <a:ext cx="7467480" cy="478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AA01-4080-4316-A88F-5371C002FC3E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kleinberg_06F09" descr=""/>
          <p:cNvPicPr/>
          <p:nvPr/>
        </p:nvPicPr>
        <p:blipFill>
          <a:blip r:embed="rId2"/>
          <a:stretch/>
        </p:blipFill>
        <p:spPr>
          <a:xfrm>
            <a:off x="1130400" y="1219320"/>
            <a:ext cx="7543800" cy="394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54644-DEAC-4B0B-A9DB-A7B21FD4E095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kleinberg_06a05p265" descr=""/>
          <p:cNvPicPr/>
          <p:nvPr/>
        </p:nvPicPr>
        <p:blipFill>
          <a:blip r:embed="rId2"/>
          <a:stretch/>
        </p:blipFill>
        <p:spPr>
          <a:xfrm>
            <a:off x="1028880" y="2057400"/>
            <a:ext cx="7772400" cy="3540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5, page 265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8AAA9-5C54-4298-8ECF-4974B5C70D5B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kleinberg_06a06p266" descr=""/>
          <p:cNvPicPr/>
          <p:nvPr/>
        </p:nvPicPr>
        <p:blipFill>
          <a:blip r:embed="rId2"/>
          <a:stretch/>
        </p:blipFill>
        <p:spPr>
          <a:xfrm>
            <a:off x="1066680" y="2181240"/>
            <a:ext cx="7772400" cy="2924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6, page 266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37377-4D2A-410A-A1E4-6EF972EDF70F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kleinberg_06F10" descr=""/>
          <p:cNvPicPr/>
          <p:nvPr/>
        </p:nvPicPr>
        <p:blipFill>
          <a:blip r:embed="rId2"/>
          <a:stretch/>
        </p:blipFill>
        <p:spPr>
          <a:xfrm>
            <a:off x="1092240" y="1905120"/>
            <a:ext cx="7696080" cy="256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2C7B-9802-41B2-82A4-3F95AE3658AF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kleinberg_06a07p269" descr=""/>
          <p:cNvPicPr/>
          <p:nvPr/>
        </p:nvPicPr>
        <p:blipFill>
          <a:blip r:embed="rId2"/>
          <a:stretch/>
        </p:blipFill>
        <p:spPr>
          <a:xfrm>
            <a:off x="1066680" y="2017800"/>
            <a:ext cx="7772400" cy="3240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7, page 269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AB49D-DDC2-43EF-AB01-CAB58EC5C22B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kleinberg_06F11" descr=""/>
          <p:cNvPicPr/>
          <p:nvPr/>
        </p:nvPicPr>
        <p:blipFill>
          <a:blip r:embed="rId2"/>
          <a:stretch/>
        </p:blipFill>
        <p:spPr>
          <a:xfrm>
            <a:off x="1130400" y="838080"/>
            <a:ext cx="7467480" cy="469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4E92-EEAB-4146-834E-80A5F1E7A62B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41480" y="1979640"/>
            <a:ext cx="7619760" cy="244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067F-7780-4026-988B-612D2A0AF441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kleinberg_06F12" descr=""/>
          <p:cNvPicPr/>
          <p:nvPr/>
        </p:nvPicPr>
        <p:blipFill>
          <a:blip r:embed="rId2"/>
          <a:stretch/>
        </p:blipFill>
        <p:spPr>
          <a:xfrm>
            <a:off x="1117440" y="609480"/>
            <a:ext cx="7506000" cy="519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FB11A-9EF8-40E4-859B-658465A9A7F0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kleinberg_06F13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7467840" cy="548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D549D-9466-4356-85F2-672B1CC0DC76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kleinberg_06F14" descr=""/>
          <p:cNvPicPr/>
          <p:nvPr/>
        </p:nvPicPr>
        <p:blipFill>
          <a:blip r:embed="rId2"/>
          <a:stretch/>
        </p:blipFill>
        <p:spPr>
          <a:xfrm>
            <a:off x="1117440" y="863640"/>
            <a:ext cx="7467840" cy="462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629DB-BC8C-4390-A7D4-4DA8E5D89AB1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kleinberg_06F15" descr=""/>
          <p:cNvPicPr/>
          <p:nvPr/>
        </p:nvPicPr>
        <p:blipFill>
          <a:blip r:embed="rId2"/>
          <a:stretch/>
        </p:blipFill>
        <p:spPr>
          <a:xfrm>
            <a:off x="1104840" y="1219320"/>
            <a:ext cx="7543800" cy="382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C70D-BCC7-4778-8D3F-15458083332F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kleinberg_06F16" descr=""/>
          <p:cNvPicPr/>
          <p:nvPr/>
        </p:nvPicPr>
        <p:blipFill>
          <a:blip r:embed="rId2"/>
          <a:stretch/>
        </p:blipFill>
        <p:spPr>
          <a:xfrm>
            <a:off x="1117440" y="441360"/>
            <a:ext cx="7543800" cy="55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8EAFA-D1DF-4B48-988C-F078433303C1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kleinberg_06a08p277" descr=""/>
          <p:cNvPicPr/>
          <p:nvPr/>
        </p:nvPicPr>
        <p:blipFill>
          <a:blip r:embed="rId2"/>
          <a:stretch/>
        </p:blipFill>
        <p:spPr>
          <a:xfrm>
            <a:off x="1066680" y="2222640"/>
            <a:ext cx="7772400" cy="2882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8, page 277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C753C-3EC7-4C94-8548-A970C006514C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kleinberg_06a09p278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7772400" cy="10746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9, page 27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89BF-E70F-4A7C-B080-D21DE7CEF587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kleinberg_06a10p279" descr=""/>
          <p:cNvPicPr/>
          <p:nvPr/>
        </p:nvPicPr>
        <p:blipFill>
          <a:blip r:embed="rId2"/>
          <a:stretch/>
        </p:blipFill>
        <p:spPr>
          <a:xfrm>
            <a:off x="1041480" y="2565360"/>
            <a:ext cx="7772400" cy="1122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10, page 279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7B1AB-59E8-42DE-848A-1C99AD7842F0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kleinberg_06a11p279" descr=""/>
          <p:cNvPicPr/>
          <p:nvPr/>
        </p:nvPicPr>
        <p:blipFill>
          <a:blip r:embed="rId2"/>
          <a:stretch/>
        </p:blipFill>
        <p:spPr>
          <a:xfrm>
            <a:off x="1066680" y="2627280"/>
            <a:ext cx="7772400" cy="1030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11, page 279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7F7B-7A80-4DBD-A089-35DF992755D8}" type="slidenum">
              <a:t>28</a:t>
            </a:fld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kleinberg_06a12p280" descr=""/>
          <p:cNvPicPr/>
          <p:nvPr/>
        </p:nvPicPr>
        <p:blipFill>
          <a:blip r:embed="rId2"/>
          <a:stretch/>
        </p:blipFill>
        <p:spPr>
          <a:xfrm>
            <a:off x="1066680" y="2666880"/>
            <a:ext cx="7772400" cy="1096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12, page 280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6FF3-5BB9-43FA-98DB-803DD526289B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kleinberg_06F02" descr=""/>
          <p:cNvPicPr/>
          <p:nvPr/>
        </p:nvPicPr>
        <p:blipFill>
          <a:blip r:embed="rId2"/>
          <a:stretch/>
        </p:blipFill>
        <p:spPr>
          <a:xfrm>
            <a:off x="1092240" y="1305000"/>
            <a:ext cx="7620120" cy="40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CFBA-AAF0-458E-AF7A-646A017DDAA2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kleinberg_06a13p282" descr=""/>
          <p:cNvPicPr/>
          <p:nvPr/>
        </p:nvPicPr>
        <p:blipFill>
          <a:blip r:embed="rId2"/>
          <a:stretch/>
        </p:blipFill>
        <p:spPr>
          <a:xfrm>
            <a:off x="1066680" y="2022480"/>
            <a:ext cx="7772400" cy="35402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13, page 28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B752-DC54-4B02-AE4C-BDBBF796669C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kleinberg_06F17" descr=""/>
          <p:cNvPicPr/>
          <p:nvPr/>
        </p:nvPicPr>
        <p:blipFill>
          <a:blip r:embed="rId2"/>
          <a:stretch/>
        </p:blipFill>
        <p:spPr>
          <a:xfrm>
            <a:off x="1028880" y="685800"/>
            <a:ext cx="7619760" cy="499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C81B7-E8E8-47CE-AFBA-9FC7125450C6}" type="slidenum">
              <a:t>31</a:t>
            </a:fld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kleinberg_06F18" descr=""/>
          <p:cNvPicPr/>
          <p:nvPr/>
        </p:nvPicPr>
        <p:blipFill>
          <a:blip r:embed="rId2"/>
          <a:stretch/>
        </p:blipFill>
        <p:spPr>
          <a:xfrm>
            <a:off x="2247840" y="419040"/>
            <a:ext cx="4649760" cy="582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28348-AAFF-43F7-B570-04A30FCB07F0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kleinberg_06a14p285" descr=""/>
          <p:cNvPicPr/>
          <p:nvPr/>
        </p:nvPicPr>
        <p:blipFill>
          <a:blip r:embed="rId2"/>
          <a:stretch/>
        </p:blipFill>
        <p:spPr>
          <a:xfrm>
            <a:off x="1028880" y="1984320"/>
            <a:ext cx="7772400" cy="40989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14, page 285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50FB4-E476-4E3E-8F57-45D16988BB73}" type="slidenum">
              <a:t>33</a:t>
            </a:fld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kleinberg_06a15p288" descr=""/>
          <p:cNvPicPr/>
          <p:nvPr/>
        </p:nvPicPr>
        <p:blipFill>
          <a:blip r:embed="rId2"/>
          <a:stretch/>
        </p:blipFill>
        <p:spPr>
          <a:xfrm>
            <a:off x="1066680" y="1969920"/>
            <a:ext cx="7772400" cy="4050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15, page 28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7CB5D-ABC5-4CDD-8916-F64E9CB0A7A3}" type="slidenum">
              <a:t>34</a:t>
            </a:fld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kleinberg_06F19" descr=""/>
          <p:cNvPicPr/>
          <p:nvPr/>
        </p:nvPicPr>
        <p:blipFill>
          <a:blip r:embed="rId2"/>
          <a:stretch/>
        </p:blipFill>
        <p:spPr>
          <a:xfrm>
            <a:off x="1066680" y="1136520"/>
            <a:ext cx="7543800" cy="427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9E66-B06E-4F1F-BEB1-DF911C323DBD}" type="slidenum">
              <a:t>35</a:t>
            </a:fld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kleinberg_06F20" descr=""/>
          <p:cNvPicPr/>
          <p:nvPr/>
        </p:nvPicPr>
        <p:blipFill>
          <a:blip r:embed="rId2"/>
          <a:stretch/>
        </p:blipFill>
        <p:spPr>
          <a:xfrm>
            <a:off x="1015920" y="1797120"/>
            <a:ext cx="7772400" cy="246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1AC4A-56D1-4431-ACAD-613ABE8FBD76}" type="slidenum">
              <a:t>36</a:t>
            </a:fld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kleinberg_06F21" descr=""/>
          <p:cNvPicPr/>
          <p:nvPr/>
        </p:nvPicPr>
        <p:blipFill>
          <a:blip r:embed="rId2"/>
          <a:stretch/>
        </p:blipFill>
        <p:spPr>
          <a:xfrm>
            <a:off x="3429000" y="406440"/>
            <a:ext cx="2505240" cy="576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8E67B-CD6C-4148-8311-B7B47045048F}" type="slidenum">
              <a:t>37</a:t>
            </a:fld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kleinberg_06F22" descr=""/>
          <p:cNvPicPr/>
          <p:nvPr/>
        </p:nvPicPr>
        <p:blipFill>
          <a:blip r:embed="rId2"/>
          <a:stretch/>
        </p:blipFill>
        <p:spPr>
          <a:xfrm>
            <a:off x="1015920" y="1828800"/>
            <a:ext cx="7772400" cy="23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9005D-1B6E-4E48-8B52-CB67CCA96BA0}" type="slidenum">
              <a:t>38</a:t>
            </a:fld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60560" y="1998720"/>
            <a:ext cx="7600680" cy="3411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16, page 294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D425-7153-4FCE-8344-D2FC43299057}" type="slidenum">
              <a:t>39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kleinberg_06a01p254" descr=""/>
          <p:cNvPicPr/>
          <p:nvPr/>
        </p:nvPicPr>
        <p:blipFill>
          <a:blip r:embed="rId2"/>
          <a:stretch/>
        </p:blipFill>
        <p:spPr>
          <a:xfrm>
            <a:off x="1066680" y="2212920"/>
            <a:ext cx="7772400" cy="2282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1, page 254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AD2B-2179-4ECC-A3EF-F80731CE0F78}" type="slidenum">
              <a:t>4</a:t>
            </a:fld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kleinberg_06F23" descr=""/>
          <p:cNvPicPr/>
          <p:nvPr/>
        </p:nvPicPr>
        <p:blipFill>
          <a:blip r:embed="rId2"/>
          <a:stretch/>
        </p:blipFill>
        <p:spPr>
          <a:xfrm>
            <a:off x="3584520" y="393840"/>
            <a:ext cx="220680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7E20-A759-40F1-8703-AAE3D90980CA}" type="slidenum">
              <a:t>40</a:t>
            </a:fld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kleinberg_06a17p298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6781680" cy="43606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17, page 29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AB57-A77F-47DE-B9D6-EE425852F726}" type="slidenum">
              <a:t>41</a:t>
            </a:fld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kleinberg_06a18p299" descr=""/>
          <p:cNvPicPr/>
          <p:nvPr/>
        </p:nvPicPr>
        <p:blipFill>
          <a:blip r:embed="rId2"/>
          <a:stretch/>
        </p:blipFill>
        <p:spPr>
          <a:xfrm>
            <a:off x="1295280" y="1890720"/>
            <a:ext cx="6629400" cy="4281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18, page 299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36D8-1482-4211-9E7A-0670D3923229}" type="slidenum">
              <a:t>42</a:t>
            </a:fld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kleinberg_06F24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7543800" cy="244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38468-E577-4606-B792-E82A98415F35}" type="slidenum">
              <a:t>43</a:t>
            </a:fld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kleinberg_06F25" descr=""/>
          <p:cNvPicPr/>
          <p:nvPr/>
        </p:nvPicPr>
        <p:blipFill>
          <a:blip r:embed="rId2"/>
          <a:stretch/>
        </p:blipFill>
        <p:spPr>
          <a:xfrm>
            <a:off x="1744560" y="304920"/>
            <a:ext cx="610416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3A86-E4FB-4275-8144-D04EF0AB2852}" type="slidenum">
              <a:t>44</a:t>
            </a:fld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kleinberg_06F26" descr=""/>
          <p:cNvPicPr/>
          <p:nvPr/>
        </p:nvPicPr>
        <p:blipFill>
          <a:blip r:embed="rId2"/>
          <a:stretch/>
        </p:blipFill>
        <p:spPr>
          <a:xfrm>
            <a:off x="1104840" y="1195560"/>
            <a:ext cx="7543800" cy="413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3EDE9-0B45-40A4-86CD-A532499E51C4}" type="slidenum">
              <a:t>45</a:t>
            </a:fld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kleinberg_06a19p308se01" descr=""/>
          <p:cNvPicPr/>
          <p:nvPr/>
        </p:nvPicPr>
        <p:blipFill>
          <a:blip r:embed="rId2"/>
          <a:stretch/>
        </p:blipFill>
        <p:spPr>
          <a:xfrm>
            <a:off x="1066680" y="2374920"/>
            <a:ext cx="7772400" cy="2119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19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Solved Exercise 1, page 30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854E-49F3-4A28-BFF0-0645537C6B0E}" type="slidenum">
              <a:t>46</a:t>
            </a:fld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kleinberg_06F27se02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7696440" cy="23428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Solved Exercise 2, page 310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2809-53EF-47C7-BA02-D140F90D7F10}" type="slidenum">
              <a:t>47</a:t>
            </a:fld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723888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20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Solved Exercise 2, page 311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BF038-3523-47D6-9B70-41DE56258F52}" type="slidenum">
              <a:t>48</a:t>
            </a:fld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kleinberg_06a21p312ex01a" descr=""/>
          <p:cNvPicPr/>
          <p:nvPr/>
        </p:nvPicPr>
        <p:blipFill>
          <a:blip r:embed="rId2"/>
          <a:stretch/>
        </p:blipFill>
        <p:spPr>
          <a:xfrm>
            <a:off x="1066680" y="2265480"/>
            <a:ext cx="7772400" cy="32972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21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1 (a), page 31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EFF45-B52A-490A-9BDD-5CF8826FCBF1}" type="slidenum">
              <a:t>49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kleinberg_06F03" descr=""/>
          <p:cNvPicPr/>
          <p:nvPr/>
        </p:nvPicPr>
        <p:blipFill>
          <a:blip r:embed="rId2"/>
          <a:stretch/>
        </p:blipFill>
        <p:spPr>
          <a:xfrm>
            <a:off x="1244520" y="457200"/>
            <a:ext cx="6959520" cy="55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8AA37-B69B-4C0F-9E19-8C29DEBBA64A}" type="slidenum">
              <a:t>5</a:t>
            </a:fld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kleinberg_06a22p312ex01b" descr=""/>
          <p:cNvPicPr/>
          <p:nvPr/>
        </p:nvPicPr>
        <p:blipFill>
          <a:blip r:embed="rId2"/>
          <a:stretch/>
        </p:blipFill>
        <p:spPr>
          <a:xfrm>
            <a:off x="1003320" y="2438280"/>
            <a:ext cx="7772400" cy="23814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22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1 (b), page 31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EC12-6B3D-4FFB-9177-AB5976DC7B28}" type="slidenum">
              <a:t>50</a:t>
            </a:fld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kleinberg_06F28ex01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762012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1, page 31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0F5C-878D-4013-8B10-AE4558CFC466}" type="slidenum">
              <a:t>51</a:t>
            </a:fld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041480" y="2035080"/>
            <a:ext cx="7696080" cy="3908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23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2 (a), page 314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B2979-DFA4-4261-B7A0-624D865CE90D}" type="slidenum">
              <a:t>52</a:t>
            </a:fld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kleinberg_06a24p314ex03a" descr=""/>
          <p:cNvPicPr/>
          <p:nvPr/>
        </p:nvPicPr>
        <p:blipFill>
          <a:blip r:embed="rId2"/>
          <a:stretch/>
        </p:blipFill>
        <p:spPr>
          <a:xfrm>
            <a:off x="1066680" y="2017800"/>
            <a:ext cx="7772400" cy="36972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24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3 (a), page 314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140D-24D3-44EC-BD5F-365D2F2FD50A}" type="slidenum">
              <a:t>53</a:t>
            </a:fld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kleinberg_06F29ex03" descr=""/>
          <p:cNvPicPr/>
          <p:nvPr/>
        </p:nvPicPr>
        <p:blipFill>
          <a:blip r:embed="rId2"/>
          <a:stretch/>
        </p:blipFill>
        <p:spPr>
          <a:xfrm>
            <a:off x="1028880" y="2743200"/>
            <a:ext cx="7619760" cy="20318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3, page 314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584E-2441-4421-BFDB-398C1571E9F9}" type="slidenum">
              <a:t>54</a:t>
            </a:fld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kleinberg_06a25p316ex04a" descr=""/>
          <p:cNvPicPr/>
          <p:nvPr/>
        </p:nvPicPr>
        <p:blipFill>
          <a:blip r:embed="rId2"/>
          <a:stretch/>
        </p:blipFill>
        <p:spPr>
          <a:xfrm>
            <a:off x="1028880" y="2330280"/>
            <a:ext cx="7772400" cy="2622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25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4 (a), page 316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EB3B1-5924-4251-ACBC-4CABE56E1F47}" type="slidenum">
              <a:t>55</a:t>
            </a:fld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kleinberg_06a26p317ex06" descr=""/>
          <p:cNvPicPr/>
          <p:nvPr/>
        </p:nvPicPr>
        <p:blipFill>
          <a:blip r:embed="rId2"/>
          <a:stretch/>
        </p:blipFill>
        <p:spPr>
          <a:xfrm>
            <a:off x="1041480" y="2286000"/>
            <a:ext cx="7772400" cy="27972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26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6, page 317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768A2-8AC9-404B-AEE5-C99CEF9ACD76}" type="slidenum">
              <a:t>56</a:t>
            </a:fld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27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6, page 31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028880" y="2286000"/>
            <a:ext cx="777240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935DC-9503-425D-9E10-7547110A6D03}" type="slidenum">
              <a:t>57</a:t>
            </a:fld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006560" y="2309760"/>
            <a:ext cx="7756560" cy="28717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28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8 (a), page 320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18E7-F159-40C2-870A-422B6216D71F}" type="slidenum">
              <a:t>58</a:t>
            </a:fld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kleinberg_06a29p322ex10a" descr=""/>
          <p:cNvPicPr/>
          <p:nvPr/>
        </p:nvPicPr>
        <p:blipFill>
          <a:blip r:embed="rId2"/>
          <a:stretch/>
        </p:blipFill>
        <p:spPr>
          <a:xfrm>
            <a:off x="1219320" y="1816200"/>
            <a:ext cx="6705360" cy="4424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29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10 (a), page 32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CB141-3D9C-4887-B1F5-9D29FF40C534}" type="slidenum">
              <a:t>59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kleinberg_06F04" descr=""/>
          <p:cNvPicPr/>
          <p:nvPr/>
        </p:nvPicPr>
        <p:blipFill>
          <a:blip r:embed="rId2"/>
          <a:stretch/>
        </p:blipFill>
        <p:spPr>
          <a:xfrm>
            <a:off x="1104840" y="1676520"/>
            <a:ext cx="7467840" cy="288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E360F-AFDE-4C88-9866-C0B6FD46073A}" type="slidenum">
              <a:t>6</a:t>
            </a:fld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kleinberg_06a30p326ex15a" descr=""/>
          <p:cNvPicPr/>
          <p:nvPr/>
        </p:nvPicPr>
        <p:blipFill>
          <a:blip r:embed="rId2"/>
          <a:stretch/>
        </p:blipFill>
        <p:spPr>
          <a:xfrm>
            <a:off x="1041480" y="1914480"/>
            <a:ext cx="7772400" cy="41814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30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15 (a), page 326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B4FF-7FEA-4183-BF9E-59EF623F057D}" type="slidenum">
              <a:t>60</a:t>
            </a:fld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kleinberg_06F30ex16" descr=""/>
          <p:cNvPicPr/>
          <p:nvPr/>
        </p:nvPicPr>
        <p:blipFill>
          <a:blip r:embed="rId2"/>
          <a:stretch/>
        </p:blipFill>
        <p:spPr>
          <a:xfrm>
            <a:off x="5029200" y="393840"/>
            <a:ext cx="3276720" cy="5790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3733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16, page 327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8837-6679-46D9-BADA-831E1763DEAA}" type="slidenum">
              <a:t>61</a:t>
            </a:fld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kleinberg_06a31p328ex17a" descr=""/>
          <p:cNvPicPr/>
          <p:nvPr/>
        </p:nvPicPr>
        <p:blipFill>
          <a:blip r:embed="rId2"/>
          <a:stretch/>
        </p:blipFill>
        <p:spPr>
          <a:xfrm>
            <a:off x="990720" y="2128680"/>
            <a:ext cx="7772400" cy="3357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31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17 (a), page 32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6205-1D89-442D-8281-B52487768B03}" type="slidenum">
              <a:t>62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leinberg_06a02p256" descr=""/>
          <p:cNvPicPr/>
          <p:nvPr/>
        </p:nvPicPr>
        <p:blipFill>
          <a:blip r:embed="rId2"/>
          <a:stretch/>
        </p:blipFill>
        <p:spPr>
          <a:xfrm>
            <a:off x="990720" y="1995480"/>
            <a:ext cx="7772400" cy="3110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2, page 256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385B3-DD12-402F-8B63-FA6DEB2400C4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kleinberg_06a03p258" descr=""/>
          <p:cNvPicPr/>
          <p:nvPr/>
        </p:nvPicPr>
        <p:blipFill>
          <a:blip r:embed="rId2"/>
          <a:stretch/>
        </p:blipFill>
        <p:spPr>
          <a:xfrm>
            <a:off x="1066680" y="1990800"/>
            <a:ext cx="7772400" cy="3571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3, page 25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D0A9E-DFAF-4455-9FD0-5FE1DDF4CB7E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kleinberg_06a04p259" descr=""/>
          <p:cNvPicPr/>
          <p:nvPr/>
        </p:nvPicPr>
        <p:blipFill>
          <a:blip r:embed="rId2"/>
          <a:stretch/>
        </p:blipFill>
        <p:spPr>
          <a:xfrm>
            <a:off x="1143000" y="2355840"/>
            <a:ext cx="7772400" cy="1987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6.4, page 259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2BE85-B2ED-468F-A2D0-86418B363C7A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0:13:44Z</dcterms:created>
  <dc:creator>mark temelko</dc:creator>
  <dc:description/>
  <dc:language>en-US</dc:language>
  <cp:lastModifiedBy>mark temelko</cp:lastModifiedBy>
  <cp:lastPrinted>2001-07-20T01:09:35Z</cp:lastPrinted>
  <dcterms:modified xsi:type="dcterms:W3CDTF">2005-03-04T20:23:51Z</dcterms:modified>
  <cp:revision>91</cp:revision>
  <dc:subject/>
  <dc:title>Chapter 3</dc:title>
</cp:coreProperties>
</file>