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0AFF-AE6A-491D-9195-EFA8FA10F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F69C-0848-413F-8697-6F161064E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A846-CCB6-4E53-BA61-C4276889B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4809-7252-4555-B439-3DA88EC94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42B5-E793-4D7F-A44E-AF1BA78F0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50F2-9D68-4023-A874-C1DF8F867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6FE4-D681-48A6-ACB6-CAB59ED15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DE36-5756-4444-AAA0-696D3179A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F731-BA23-48BA-99FA-04ABC6263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2D34-EC1E-44FC-BED4-63C848272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3BE4-569E-4468-8264-332D52B98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B7DF-D611-4016-B22A-1E0B601B2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logue-</a:t>
            </a:r>
            <a:fld id="{E744ED3D-BAB9-460A-A036-95FD1349E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Algorithms That Run Forever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EPa01p796" descr=""/>
          <p:cNvPicPr/>
          <p:nvPr/>
        </p:nvPicPr>
        <p:blipFill>
          <a:blip r:embed="rId2"/>
          <a:stretch/>
        </p:blipFill>
        <p:spPr>
          <a:xfrm>
            <a:off x="1219320" y="2419200"/>
            <a:ext cx="7467480" cy="141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E.1, page 79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19CC-5D5B-4470-92E0-4103DEC17489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EP_F01" descr=""/>
          <p:cNvPicPr/>
          <p:nvPr/>
        </p:nvPicPr>
        <p:blipFill>
          <a:blip r:embed="rId2"/>
          <a:stretch/>
        </p:blipFill>
        <p:spPr>
          <a:xfrm>
            <a:off x="1282680" y="1295280"/>
            <a:ext cx="7175520" cy="372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BC89-1466-491E-A5F9-D6010150E79B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EPa02p798" descr=""/>
          <p:cNvPicPr/>
          <p:nvPr/>
        </p:nvPicPr>
        <p:blipFill>
          <a:blip r:embed="rId2"/>
          <a:stretch/>
        </p:blipFill>
        <p:spPr>
          <a:xfrm>
            <a:off x="1168560" y="2305080"/>
            <a:ext cx="7518240" cy="1733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E.2, page 79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4581-2ACA-45DE-87A6-20A19C7FFB23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EP_F02" descr=""/>
          <p:cNvPicPr/>
          <p:nvPr/>
        </p:nvPicPr>
        <p:blipFill>
          <a:blip r:embed="rId2"/>
          <a:stretch/>
        </p:blipFill>
        <p:spPr>
          <a:xfrm>
            <a:off x="2414520" y="533520"/>
            <a:ext cx="497700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3539-6A27-4B8B-A502-8CD58FA8D254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EPa03p800" descr=""/>
          <p:cNvPicPr/>
          <p:nvPr/>
        </p:nvPicPr>
        <p:blipFill>
          <a:blip r:embed="rId2"/>
          <a:stretch/>
        </p:blipFill>
        <p:spPr>
          <a:xfrm>
            <a:off x="1219320" y="2317680"/>
            <a:ext cx="7467480" cy="2328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E.3, page 80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BC91-1B25-4801-B234-63BED0B785F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leinberg_EPa04p802" descr=""/>
          <p:cNvPicPr/>
          <p:nvPr/>
        </p:nvPicPr>
        <p:blipFill>
          <a:blip r:embed="rId2"/>
          <a:stretch/>
        </p:blipFill>
        <p:spPr>
          <a:xfrm>
            <a:off x="1219320" y="2355840"/>
            <a:ext cx="7467480" cy="1716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E.4, page 80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942E-12D3-42D2-BF1F-79C58E5CC43D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leinberg_EP_F03" descr=""/>
          <p:cNvPicPr/>
          <p:nvPr/>
        </p:nvPicPr>
        <p:blipFill>
          <a:blip r:embed="rId2"/>
          <a:stretch/>
        </p:blipFill>
        <p:spPr>
          <a:xfrm>
            <a:off x="1231920" y="1308240"/>
            <a:ext cx="7315200" cy="343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1AC9-B917-4EC0-954B-3A26C1F928E4}" type="slidenum">
              <a:t>8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1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8T01:44:02Z</dcterms:modified>
  <cp:revision>122</cp:revision>
  <dc:subject/>
  <dc:title>Chapter 1</dc:title>
</cp:coreProperties>
</file>