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C73F-2587-45AD-BF06-624B2D58E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8EFE-0463-4821-A09C-3296937ED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77B7-178B-413F-8B3C-8E60E4D12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4C41-C812-46FD-ABF8-BA653B99B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FD1E-09C4-4458-A362-35F16C5F8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53648-B1E2-4F2B-87EF-7A66A30B0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8AF3-3DA5-43C3-83AB-477DE488C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00E1-4023-48A1-A270-9267AE4A4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CD18-568A-4FE8-990B-9D5195C0C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C5DE-443A-4D51-BD4E-5CA2A75B3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7830D-2E7C-42ED-AA1C-7285A9D86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D89C-CFBF-4A2D-9090-A4946B99C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F8EFA92B-A8BC-4291-B3A1-7583CEA24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Randomized Algorithms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kleinberg_13a07p752" descr=""/>
          <p:cNvPicPr/>
          <p:nvPr/>
        </p:nvPicPr>
        <p:blipFill>
          <a:blip r:embed="rId2"/>
          <a:stretch/>
        </p:blipFill>
        <p:spPr>
          <a:xfrm>
            <a:off x="1155600" y="2068560"/>
            <a:ext cx="7543800" cy="3887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7, page 75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F6FF-23EF-4491-AC7E-1C142F40B9A7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kleinberg_13a08p755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7620120" cy="507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8, page 755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86E85-ABD3-4263-B552-7DFA469F8F15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leinberg_13a09p755" descr=""/>
          <p:cNvPicPr/>
          <p:nvPr/>
        </p:nvPicPr>
        <p:blipFill>
          <a:blip r:embed="rId2"/>
          <a:stretch/>
        </p:blipFill>
        <p:spPr>
          <a:xfrm>
            <a:off x="1143000" y="2743200"/>
            <a:ext cx="7620120" cy="819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9, page 755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1320B-6713-4829-B3EA-B44C03DF5920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kleinberg_13F03" descr=""/>
          <p:cNvPicPr/>
          <p:nvPr/>
        </p:nvPicPr>
        <p:blipFill>
          <a:blip r:embed="rId2"/>
          <a:stretch/>
        </p:blipFill>
        <p:spPr>
          <a:xfrm>
            <a:off x="1257480" y="1143000"/>
            <a:ext cx="7277040" cy="422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D967C-BB04-4C52-A8A7-7A16D4CEC66D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kleinberg_13F04" descr=""/>
          <p:cNvPicPr/>
          <p:nvPr/>
        </p:nvPicPr>
        <p:blipFill>
          <a:blip r:embed="rId2"/>
          <a:stretch/>
        </p:blipFill>
        <p:spPr>
          <a:xfrm>
            <a:off x="1879560" y="482760"/>
            <a:ext cx="5943600" cy="550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5FE4-C759-4EF8-8EA9-2561BC3132FD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kleinberg_13a10p766" descr=""/>
          <p:cNvPicPr/>
          <p:nvPr/>
        </p:nvPicPr>
        <p:blipFill>
          <a:blip r:embed="rId2"/>
          <a:stretch/>
        </p:blipFill>
        <p:spPr>
          <a:xfrm>
            <a:off x="1155600" y="2457360"/>
            <a:ext cx="7543800" cy="1733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10, page 76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3FC2-F93E-4DB8-9248-31ECB6404B13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kleinberg_13a11p766" descr=""/>
          <p:cNvPicPr/>
          <p:nvPr/>
        </p:nvPicPr>
        <p:blipFill>
          <a:blip r:embed="rId2"/>
          <a:stretch/>
        </p:blipFill>
        <p:spPr>
          <a:xfrm>
            <a:off x="1219320" y="2282760"/>
            <a:ext cx="7467480" cy="2386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11, page 76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5A0B3-D208-40A5-9097-A1A68D864E07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leinberg_13F05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7416720" cy="287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A484-E2D3-4838-BE90-7E10BAAE112A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kleinberg_13F06ex05" descr=""/>
          <p:cNvPicPr/>
          <p:nvPr/>
        </p:nvPicPr>
        <p:blipFill>
          <a:blip r:embed="rId2"/>
          <a:stretch/>
        </p:blipFill>
        <p:spPr>
          <a:xfrm>
            <a:off x="1181160" y="2503440"/>
            <a:ext cx="7467480" cy="1535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5, page 785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BD98-AEDE-4EB1-A21B-980EA361C647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kleinberg_13a12p791ex16" descr=""/>
          <p:cNvPicPr/>
          <p:nvPr/>
        </p:nvPicPr>
        <p:blipFill>
          <a:blip r:embed="rId2"/>
          <a:stretch/>
        </p:blipFill>
        <p:spPr>
          <a:xfrm>
            <a:off x="1219320" y="2158920"/>
            <a:ext cx="7391160" cy="2959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12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6, page 791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989A-1BAC-4FD0-A2BD-C43E569CC889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leinberg_13F01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7315200" cy="256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9AF6-A4EE-452F-AC49-881E507551F5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kleinberg_13a13p792ex18" descr=""/>
          <p:cNvPicPr/>
          <p:nvPr/>
        </p:nvPicPr>
        <p:blipFill>
          <a:blip r:embed="rId2"/>
          <a:stretch/>
        </p:blipFill>
        <p:spPr>
          <a:xfrm>
            <a:off x="1219320" y="2406600"/>
            <a:ext cx="7467480" cy="2165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13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8, page 79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78203-B8EE-417A-A95B-64B0CBAE177F}" type="slidenum">
              <a:t>20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kleinberg_13a01p716" descr=""/>
          <p:cNvPicPr/>
          <p:nvPr/>
        </p:nvPicPr>
        <p:blipFill>
          <a:blip r:embed="rId2"/>
          <a:stretch/>
        </p:blipFill>
        <p:spPr>
          <a:xfrm>
            <a:off x="1206360" y="2133720"/>
            <a:ext cx="7391520" cy="3504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1, page 71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D951-A3BD-46EC-AC6E-1D3663677C8D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leinberg_13a02p728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6400800" cy="415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2, page 72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E9B1-F9B0-49B1-A2EC-F565875C586D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kleinberg_13a03p730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7620120" cy="507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3, page 730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9427-216F-44F6-B2C4-8B804489698F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kleinberg_13a04p731" descr=""/>
          <p:cNvPicPr/>
          <p:nvPr/>
        </p:nvPicPr>
        <p:blipFill>
          <a:blip r:embed="rId2"/>
          <a:stretch/>
        </p:blipFill>
        <p:spPr>
          <a:xfrm>
            <a:off x="1282680" y="1981080"/>
            <a:ext cx="7162920" cy="4141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4, page 731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9497-1094-46A5-A976-70CF52BC5C10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leinberg_13a05p732" descr=""/>
          <p:cNvPicPr/>
          <p:nvPr/>
        </p:nvPicPr>
        <p:blipFill>
          <a:blip r:embed="rId2"/>
          <a:stretch/>
        </p:blipFill>
        <p:spPr>
          <a:xfrm>
            <a:off x="1905120" y="1852560"/>
            <a:ext cx="5410080" cy="4395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5, page 73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7196-2EFB-40CA-8AD2-6B4661A168E5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leinberg_13F02" descr=""/>
          <p:cNvPicPr/>
          <p:nvPr/>
        </p:nvPicPr>
        <p:blipFill>
          <a:blip r:embed="rId2"/>
          <a:stretch/>
        </p:blipFill>
        <p:spPr>
          <a:xfrm>
            <a:off x="1320840" y="1219320"/>
            <a:ext cx="7061040" cy="407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5497-DDFD-4DA2-9F0F-22AF99DDA4AD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kleinberg_13a06p746" descr=""/>
          <p:cNvPicPr/>
          <p:nvPr/>
        </p:nvPicPr>
        <p:blipFill>
          <a:blip r:embed="rId2"/>
          <a:stretch/>
        </p:blipFill>
        <p:spPr>
          <a:xfrm>
            <a:off x="1676520" y="1782720"/>
            <a:ext cx="5790960" cy="4389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3.6, page 74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E2245-672A-44AD-AA02-42DE0E23343D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1:45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8T01:31:46Z</dcterms:modified>
  <cp:revision>112</cp:revision>
  <dc:subject/>
  <dc:title>Chapter 1</dc:title>
</cp:coreProperties>
</file>