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9F9D-EBA9-4707-9AE2-21EF00388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F75D-2FE4-40D9-AC86-F17239AA4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CAC0-BE15-41D5-9E5B-9A9C13F76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763B-822D-43AC-A116-1D51DBB5E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0AE9-163D-4358-BDE8-92CA4E00C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E14D-A59A-4798-9EEC-4444E0ABC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A090-E848-4854-8FB9-BDC58DF12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B122-3EC1-4A50-AB12-82E15A761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C436-D16D-47F4-9054-6445F4D86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F53D-1259-40C8-B2D2-39782E532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3CB8-60F4-43BF-8F66-9200F88C0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4AA5-94EC-4501-BFBD-B5CCF42C0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06F3E808-85A6-4DF9-8FF8-BF2925D0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03a04p093" descr=""/>
          <p:cNvPicPr/>
          <p:nvPr/>
        </p:nvPicPr>
        <p:blipFill>
          <a:blip r:embed="rId2"/>
          <a:stretch/>
        </p:blipFill>
        <p:spPr>
          <a:xfrm>
            <a:off x="1066680" y="1968480"/>
            <a:ext cx="7772400" cy="374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3.4, page 9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F8D5-E1A0-486C-A838-879EA7883F12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03F06" descr=""/>
          <p:cNvPicPr/>
          <p:nvPr/>
        </p:nvPicPr>
        <p:blipFill>
          <a:blip r:embed="rId2"/>
          <a:stretch/>
        </p:blipFill>
        <p:spPr>
          <a:xfrm>
            <a:off x="3124080" y="457200"/>
            <a:ext cx="290520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AC4A-9462-47BC-BC3B-D6990C0C4BEF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leinberg_03F07" descr=""/>
          <p:cNvPicPr/>
          <p:nvPr/>
        </p:nvPicPr>
        <p:blipFill>
          <a:blip r:embed="rId2"/>
          <a:stretch/>
        </p:blipFill>
        <p:spPr>
          <a:xfrm>
            <a:off x="1041480" y="1703520"/>
            <a:ext cx="7772400" cy="30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80CD-DF54-46FD-BEFF-09ED2523BCC5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leinberg_03a05p102" descr=""/>
          <p:cNvPicPr/>
          <p:nvPr/>
        </p:nvPicPr>
        <p:blipFill>
          <a:blip r:embed="rId2"/>
          <a:stretch/>
        </p:blipFill>
        <p:spPr>
          <a:xfrm>
            <a:off x="1066680" y="2206800"/>
            <a:ext cx="7772400" cy="198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3.5, page 10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2C0A-72D8-4FCD-84AD-EB2021809354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leinberg_03F08" descr=""/>
          <p:cNvPicPr/>
          <p:nvPr/>
        </p:nvPicPr>
        <p:blipFill>
          <a:blip r:embed="rId2"/>
          <a:stretch/>
        </p:blipFill>
        <p:spPr>
          <a:xfrm>
            <a:off x="1143000" y="998640"/>
            <a:ext cx="7658280" cy="48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72A0-6D74-477F-8ED3-9686D24DE53E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leinberg_03F09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4095720" cy="4533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1, page 10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EC82-680E-4A8C-8CF6-5F1CFA398ACD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kleinberg_03F10ex01" descr=""/>
          <p:cNvPicPr/>
          <p:nvPr/>
        </p:nvPicPr>
        <p:blipFill>
          <a:blip r:embed="rId2"/>
          <a:stretch/>
        </p:blipFill>
        <p:spPr>
          <a:xfrm>
            <a:off x="2514600" y="1308240"/>
            <a:ext cx="4438800" cy="5105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1, page 10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52F2-5AE0-43C9-9E3A-26B553D250C3}" type="slidenum">
              <a:t>1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3F01" descr=""/>
          <p:cNvPicPr/>
          <p:nvPr/>
        </p:nvPicPr>
        <p:blipFill>
          <a:blip r:embed="rId2"/>
          <a:stretch/>
        </p:blipFill>
        <p:spPr>
          <a:xfrm>
            <a:off x="1028880" y="1447920"/>
            <a:ext cx="7772400" cy="320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ED95-E0E2-49D8-9EF1-91B63AE85781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3F02" descr=""/>
          <p:cNvPicPr/>
          <p:nvPr/>
        </p:nvPicPr>
        <p:blipFill>
          <a:blip r:embed="rId2"/>
          <a:stretch/>
        </p:blipFill>
        <p:spPr>
          <a:xfrm>
            <a:off x="1066680" y="1309680"/>
            <a:ext cx="7772400" cy="36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5AC1-CA5C-406F-9A43-102508260918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3F03" descr=""/>
          <p:cNvPicPr/>
          <p:nvPr/>
        </p:nvPicPr>
        <p:blipFill>
          <a:blip r:embed="rId2"/>
          <a:stretch/>
        </p:blipFill>
        <p:spPr>
          <a:xfrm>
            <a:off x="1066680" y="1577880"/>
            <a:ext cx="7772400" cy="345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4E0A-E929-42C5-AC07-FAD76EE6511A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einberg_03F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772400" cy="34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872A-C746-4C7E-A64E-1E54E246939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3a01p082" descr=""/>
          <p:cNvPicPr/>
          <p:nvPr/>
        </p:nvPicPr>
        <p:blipFill>
          <a:blip r:embed="rId2"/>
          <a:stretch/>
        </p:blipFill>
        <p:spPr>
          <a:xfrm>
            <a:off x="1066680" y="2179800"/>
            <a:ext cx="7772400" cy="21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3.1, page 8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690C-6753-4468-8475-898F71B41E4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3a02p084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7772400" cy="2689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3.2, page 8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531F-8D04-4AA3-961C-F40587CA73FB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03F05" descr=""/>
          <p:cNvPicPr/>
          <p:nvPr/>
        </p:nvPicPr>
        <p:blipFill>
          <a:blip r:embed="rId2"/>
          <a:stretch/>
        </p:blipFill>
        <p:spPr>
          <a:xfrm>
            <a:off x="2082960" y="431640"/>
            <a:ext cx="5308560" cy="581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79A0-5602-4E78-82AC-EAD971280EB2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3a03p090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172200" cy="4497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3.3, page 90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CB19-7C5A-4F03-834F-FB5AF0A40768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3:44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5:34Z</dcterms:modified>
  <cp:revision>21</cp:revision>
  <dc:subject/>
  <dc:title>Chapter 3</dc:title>
</cp:coreProperties>
</file>