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E673-A7F2-409F-88F9-D24C95588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17F7-5754-4596-B9EC-C18FF66A9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3DDC-C05A-44D2-81A0-6C9CD75A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E4DF-BDBF-4320-A98D-21C1E2C77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6048-F2EC-41FC-8FA2-470EE13A9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1C7B-4711-4045-AD6E-3EC4072F8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05F2-AF3C-4701-B66E-C3CD6F495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8FB4-69F9-4AA7-BA96-1CDD88D87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779F-3CC2-4206-8278-7A7301D7D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11F6-FFEE-4D99-A7F2-0F1EABD31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C710-2451-46E2-8A48-2C2B0D427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A200-DBD8-4085-9E3F-9F4C69211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BC9692F-77A2-447A-97DD-DF242C5A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Local Search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70360" y="457200"/>
            <a:ext cx="327816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8167-E2A0-4C7A-AD3A-0F20879DBFD7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12F08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327800" cy="430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4DF0-C35C-4385-B40F-18BA4EC45D21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73520" y="457200"/>
            <a:ext cx="37558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B7A1-B830-4859-9A02-A4ECEB0A1D8F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12F10" descr=""/>
          <p:cNvPicPr/>
          <p:nvPr/>
        </p:nvPicPr>
        <p:blipFill>
          <a:blip r:embed="rId2"/>
          <a:stretch/>
        </p:blipFill>
        <p:spPr>
          <a:xfrm>
            <a:off x="1244520" y="1219320"/>
            <a:ext cx="731520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242A-5DE9-499B-B48B-4ADBA653C774}" type="slidenum">
              <a:t>13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63840" y="647640"/>
            <a:ext cx="434664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F227-82AA-4E80-94AC-21CB342A76F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30520" y="457200"/>
            <a:ext cx="244656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6361-B96B-4D8F-ADE9-BA52542F0A3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144960" y="399960"/>
            <a:ext cx="3230280" cy="569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AA2C-18DF-419B-8BCF-8CE3CD8F2CDD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12a01p668" descr=""/>
          <p:cNvPicPr/>
          <p:nvPr/>
        </p:nvPicPr>
        <p:blipFill>
          <a:blip r:embed="rId2"/>
          <a:stretch/>
        </p:blipFill>
        <p:spPr>
          <a:xfrm>
            <a:off x="1206360" y="2071800"/>
            <a:ext cx="7467840" cy="3859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2.1, page 66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0173-80B4-448A-AC3A-EC8783A0863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12a02p673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7467480" cy="1716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2.2, page 67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2DCE-C8E0-4705-8A46-1BA2D67C0567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12F04" descr=""/>
          <p:cNvPicPr/>
          <p:nvPr/>
        </p:nvPicPr>
        <p:blipFill>
          <a:blip r:embed="rId2"/>
          <a:stretch/>
        </p:blipFill>
        <p:spPr>
          <a:xfrm>
            <a:off x="1981080" y="469800"/>
            <a:ext cx="5715000" cy="560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560E-0BE5-4EAC-9472-C067E6E21C1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12F05" descr=""/>
          <p:cNvPicPr/>
          <p:nvPr/>
        </p:nvPicPr>
        <p:blipFill>
          <a:blip r:embed="rId2"/>
          <a:stretch/>
        </p:blipFill>
        <p:spPr>
          <a:xfrm>
            <a:off x="1181160" y="1219320"/>
            <a:ext cx="7467480" cy="384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B4D3-7EA4-442E-A695-143ECF9C99C6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12F06" descr=""/>
          <p:cNvPicPr/>
          <p:nvPr/>
        </p:nvPicPr>
        <p:blipFill>
          <a:blip r:embed="rId2"/>
          <a:stretch/>
        </p:blipFill>
        <p:spPr>
          <a:xfrm>
            <a:off x="1244520" y="706320"/>
            <a:ext cx="7290000" cy="499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CE08-03B6-41DF-A741-E4CA027181EE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8T00:30:50Z</dcterms:modified>
  <cp:revision>100</cp:revision>
  <dc:subject/>
  <dc:title>Chapter 1</dc:title>
</cp:coreProperties>
</file>