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3379E-1717-44CC-A30D-53C051717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5F68A-05FE-4DF1-A7E7-ACCA342BD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F682B-AA8A-4394-9DB1-D97B6DC1A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8203A-1DA3-4D26-8AB1-386A5DFBD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38AF-C0A1-419B-B2E3-795F6E79F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033E-73BC-485F-B078-8351D4415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46C62-094D-48E2-B5B3-0582BD2E6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4D772-427F-4745-8F88-8841C837A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256C2-B787-4A9C-8FC7-7643AB643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C14A5-DAF6-441D-85B4-63C1C88F1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77E8-1760-4336-919D-5969337E7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288E1-8A2B-454D-9DDC-1E7CF377F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5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FB6A5C1D-0353-42D7-882D-45E0055B4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219280" y="1828800"/>
            <a:ext cx="3543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NP and Computational Intractability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kleinberg_08F09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7772400" cy="46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991A-215C-49A0-A142-2ACD248C607E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kleinberg_08F10" descr=""/>
          <p:cNvPicPr/>
          <p:nvPr/>
        </p:nvPicPr>
        <p:blipFill>
          <a:blip r:embed="rId2"/>
          <a:stretch/>
        </p:blipFill>
        <p:spPr>
          <a:xfrm>
            <a:off x="2189160" y="380880"/>
            <a:ext cx="5202360" cy="563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EAEAE-AD4F-48D1-B814-052BBF65B6A1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kleinberg_08F11" descr=""/>
          <p:cNvPicPr/>
          <p:nvPr/>
        </p:nvPicPr>
        <p:blipFill>
          <a:blip r:embed="rId2"/>
          <a:stretch/>
        </p:blipFill>
        <p:spPr>
          <a:xfrm>
            <a:off x="1066680" y="380880"/>
            <a:ext cx="7485120" cy="582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1F36-608E-49AA-851C-A401F4CB3373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kleinberg_08F12" descr=""/>
          <p:cNvPicPr/>
          <p:nvPr/>
        </p:nvPicPr>
        <p:blipFill>
          <a:blip r:embed="rId2"/>
          <a:stretch/>
        </p:blipFill>
        <p:spPr>
          <a:xfrm>
            <a:off x="1015920" y="1028880"/>
            <a:ext cx="7772400" cy="460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E97CC-C2B3-4FB0-9DDA-4CFDB82C3BD1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kleinberg_08a01p523ex34" descr=""/>
          <p:cNvPicPr/>
          <p:nvPr/>
        </p:nvPicPr>
        <p:blipFill>
          <a:blip r:embed="rId2"/>
          <a:stretch/>
        </p:blipFill>
        <p:spPr>
          <a:xfrm>
            <a:off x="990720" y="1965240"/>
            <a:ext cx="7772400" cy="3978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8.1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34, page 523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8C4DF-C5B8-40B0-93E3-FBD10D2B7E37}" type="slidenum">
              <a:t>14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kleinberg_08F01" descr=""/>
          <p:cNvPicPr/>
          <p:nvPr/>
        </p:nvPicPr>
        <p:blipFill>
          <a:blip r:embed="rId2"/>
          <a:stretch/>
        </p:blipFill>
        <p:spPr>
          <a:xfrm>
            <a:off x="2300400" y="457200"/>
            <a:ext cx="4709880" cy="582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024A8-8934-440D-8B1F-0D1EEBFB70B9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kleinberg_08F02" descr=""/>
          <p:cNvPicPr/>
          <p:nvPr/>
        </p:nvPicPr>
        <p:blipFill>
          <a:blip r:embed="rId2"/>
          <a:stretch/>
        </p:blipFill>
        <p:spPr>
          <a:xfrm>
            <a:off x="2576520" y="355680"/>
            <a:ext cx="4510080" cy="58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65E8B-2029-4D20-BDB9-C6034B0BCDCA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kleinberg_08F03" descr=""/>
          <p:cNvPicPr/>
          <p:nvPr/>
        </p:nvPicPr>
        <p:blipFill>
          <a:blip r:embed="rId2"/>
          <a:stretch/>
        </p:blipFill>
        <p:spPr>
          <a:xfrm>
            <a:off x="990720" y="419040"/>
            <a:ext cx="7772400" cy="561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D7AA8-13D8-4F48-938C-39CD708C0283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kleinberg_08F04" descr=""/>
          <p:cNvPicPr/>
          <p:nvPr/>
        </p:nvPicPr>
        <p:blipFill>
          <a:blip r:embed="rId2"/>
          <a:stretch/>
        </p:blipFill>
        <p:spPr>
          <a:xfrm>
            <a:off x="1041480" y="1143000"/>
            <a:ext cx="7772400" cy="413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492E-AA4D-4E40-B455-786C060D8764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kleinberg_08F05" descr=""/>
          <p:cNvPicPr/>
          <p:nvPr/>
        </p:nvPicPr>
        <p:blipFill>
          <a:blip r:embed="rId2"/>
          <a:stretch/>
        </p:blipFill>
        <p:spPr>
          <a:xfrm>
            <a:off x="1508040" y="380880"/>
            <a:ext cx="6772320" cy="582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6D55-C507-4485-BB13-03FF722D41E7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kleinberg_08F06" descr=""/>
          <p:cNvPicPr/>
          <p:nvPr/>
        </p:nvPicPr>
        <p:blipFill>
          <a:blip r:embed="rId2"/>
          <a:stretch/>
        </p:blipFill>
        <p:spPr>
          <a:xfrm>
            <a:off x="2133720" y="380880"/>
            <a:ext cx="5138640" cy="582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3A42C-3D3C-46A7-9A5C-193DEF5B9348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kleinberg_08F07" descr=""/>
          <p:cNvPicPr/>
          <p:nvPr/>
        </p:nvPicPr>
        <p:blipFill>
          <a:blip r:embed="rId2"/>
          <a:stretch/>
        </p:blipFill>
        <p:spPr>
          <a:xfrm>
            <a:off x="1951200" y="343080"/>
            <a:ext cx="5821200" cy="58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DB42-8818-4EB2-BC75-290695915724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kleinberg_08F08" descr=""/>
          <p:cNvPicPr/>
          <p:nvPr/>
        </p:nvPicPr>
        <p:blipFill>
          <a:blip r:embed="rId2"/>
          <a:stretch/>
        </p:blipFill>
        <p:spPr>
          <a:xfrm>
            <a:off x="1981080" y="380880"/>
            <a:ext cx="5472360" cy="582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9816-B5B2-42BE-A45E-B966F1D13730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00:11:45Z</dcterms:created>
  <dc:creator>mark temelko</dc:creator>
  <dc:description/>
  <dc:language>en-US</dc:language>
  <cp:lastModifiedBy>mark temelko</cp:lastModifiedBy>
  <cp:lastPrinted>2001-07-20T01:09:35Z</cp:lastPrinted>
  <dcterms:modified xsi:type="dcterms:W3CDTF">2005-03-04T20:22:33Z</dcterms:modified>
  <cp:revision>39</cp:revision>
  <dc:subject/>
  <dc:title>Chapter 1</dc:title>
</cp:coreProperties>
</file>