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7F71-C0BF-4D25-BA51-EB4545D5D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F518-DAE3-47F1-9E25-95D2FD81D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84BA-0591-4A38-90A3-A8B483232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24F3-E247-4B97-A950-7D03B9DD6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E762-5238-4792-A509-2B386019D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F63C-665C-4999-9A14-2A24FAC42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A759-161D-4BDE-9665-29759152E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C0C8-0838-450C-8EB6-836EAC1A5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3BF2-B085-41A2-9AA6-80BFC3EA7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6CC2-0810-42FE-9642-68E43032E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5C0C-F1DF-4E69-95C3-D8608BD41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C1E3-772A-4095-BF22-87DCB3F48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128C1CC0-65EE-412B-98B5-5C208018C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Divide </a:t>
            </a:r>
            <a:br>
              <a:rPr sz="3200"/>
            </a:b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and Conquer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leinberg_05F07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60496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374C-9BEA-4C20-8754-346BB7E1019B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05a03p230" descr=""/>
          <p:cNvPicPr/>
          <p:nvPr/>
        </p:nvPicPr>
        <p:blipFill>
          <a:blip r:embed="rId2"/>
          <a:stretch/>
        </p:blipFill>
        <p:spPr>
          <a:xfrm>
            <a:off x="4191120" y="279360"/>
            <a:ext cx="4705200" cy="6019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28958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7766"/>
                </a:solidFill>
                <a:latin typeface="Arial"/>
              </a:rPr>
              <a:t>Algorithm 5.3, page 230</a:t>
            </a:r>
            <a:endParaRPr b="1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CDD7-6BD4-4FA2-8DB2-E925697B6871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05F08" descr=""/>
          <p:cNvPicPr/>
          <p:nvPr/>
        </p:nvPicPr>
        <p:blipFill>
          <a:blip r:embed="rId2"/>
          <a:stretch/>
        </p:blipFill>
        <p:spPr>
          <a:xfrm>
            <a:off x="1003320" y="1523880"/>
            <a:ext cx="7772400" cy="28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99BE-D21C-46EB-B89C-E25F083BE6A9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kleinberg_05a04p233" descr=""/>
          <p:cNvPicPr/>
          <p:nvPr/>
        </p:nvPicPr>
        <p:blipFill>
          <a:blip r:embed="rId2"/>
          <a:stretch/>
        </p:blipFill>
        <p:spPr>
          <a:xfrm>
            <a:off x="1066680" y="2000160"/>
            <a:ext cx="7772400" cy="3029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5.4, page 23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575F-672E-4FB5-96D7-A3EF5ED04559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leinberg_05F09" descr=""/>
          <p:cNvPicPr/>
          <p:nvPr/>
        </p:nvPicPr>
        <p:blipFill>
          <a:blip r:embed="rId2"/>
          <a:stretch/>
        </p:blipFill>
        <p:spPr>
          <a:xfrm>
            <a:off x="990720" y="774720"/>
            <a:ext cx="7772400" cy="48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AA04-408B-4F33-ACB1-ECB00D504571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leinberg_05a05p247ex04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772400" cy="4116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5.5,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4, page 24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442A-97D3-4C03-AC5D-C1AD235E8103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leinberg_05F10ex05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5, page 24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581F-88FD-4CDC-9A4D-A00E2B6115CD}" type="slidenum">
              <a:t>1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5F01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229600" cy="42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E54A-701E-4ABA-A4C6-B7EADC7C9682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772400" cy="30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A44C-29E1-4A52-A41B-889467026EEB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05F03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772400" cy="478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A38D-E7F6-4AC5-9A4E-F81D044BECF3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05F04" descr=""/>
          <p:cNvPicPr/>
          <p:nvPr/>
        </p:nvPicPr>
        <p:blipFill>
          <a:blip r:embed="rId2"/>
          <a:stretch/>
        </p:blipFill>
        <p:spPr>
          <a:xfrm>
            <a:off x="2274840" y="343080"/>
            <a:ext cx="465948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E173-2339-441F-96DC-816F52D11431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05F05" descr=""/>
          <p:cNvPicPr/>
          <p:nvPr/>
        </p:nvPicPr>
        <p:blipFill>
          <a:blip r:embed="rId2"/>
          <a:stretch/>
        </p:blipFill>
        <p:spPr>
          <a:xfrm>
            <a:off x="990720" y="1301760"/>
            <a:ext cx="7924680" cy="30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957C-4003-4FD8-80F8-C1D1642343FC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05a01p224" descr=""/>
          <p:cNvPicPr/>
          <p:nvPr/>
        </p:nvPicPr>
        <p:blipFill>
          <a:blip r:embed="rId2"/>
          <a:stretch/>
        </p:blipFill>
        <p:spPr>
          <a:xfrm>
            <a:off x="1371600" y="1803240"/>
            <a:ext cx="6095880" cy="4476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5.1, page 22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3FF0-EE32-429D-BE06-F69B59B6555D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05a02p225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772400" cy="4125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5.2, page 225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5718-9486-46C7-9AA8-F6027B47B29B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05F06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772400" cy="41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9A16-6BEB-41DC-A865-221A4264AD2C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3:44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4:22Z</dcterms:modified>
  <cp:revision>57</cp:revision>
  <dc:subject/>
  <dc:title>Chapter 3</dc:title>
</cp:coreProperties>
</file>