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1601-E3A9-4F1F-8D1D-5D58C8AE1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9B8C-639F-44E0-83E0-F27820AAF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C021-95D6-4A9A-8F07-3BDC9FA8B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2F41-34F5-4AB4-9A71-B3D84A90C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74A6-D45C-4E5E-A0FB-43FAF73FB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C1BE-B84C-4A03-9EE8-99D4B8BC3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84EF-7500-4D4E-865B-2A3224C9E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D05E9-6F04-4281-8B20-AF0E54968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9110-DD2F-44DD-A363-8672BDACA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2147-A80D-498D-A223-B367A4091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E38B-33C9-4D2A-BA5D-6ED8E021E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6542-98C1-4FE6-9742-80317E3EE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6993C7CB-A4EC-4BE6-9335-6861F4A65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Extending </a:t>
            </a:r>
            <a:br>
              <a:rPr sz="3200"/>
            </a:b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the Limits </a:t>
            </a:r>
            <a:br>
              <a:rPr sz="3200"/>
            </a:b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of Tractability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kleinberg_10F05" descr=""/>
          <p:cNvPicPr/>
          <p:nvPr/>
        </p:nvPicPr>
        <p:blipFill>
          <a:blip r:embed="rId2"/>
          <a:stretch/>
        </p:blipFill>
        <p:spPr>
          <a:xfrm>
            <a:off x="1066680" y="1452600"/>
            <a:ext cx="7772400" cy="365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F841-F086-4F3F-A78D-7A09579DE527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kleinberg_10F06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640368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DFB4-7F55-40E8-8671-C7F0FFCCDBD5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kleinberg_10F07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772400" cy="47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5EFB-19A1-41C3-B128-D8985D22F573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leinberg_10F08" descr=""/>
          <p:cNvPicPr/>
          <p:nvPr/>
        </p:nvPicPr>
        <p:blipFill>
          <a:blip r:embed="rId2"/>
          <a:stretch/>
        </p:blipFill>
        <p:spPr>
          <a:xfrm>
            <a:off x="2550960" y="228600"/>
            <a:ext cx="468792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6281-CDA5-48B2-A7B5-703431F0778E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leinberg_10a05p583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0.5, page 58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B334-9B7C-45C3-BF8F-C89CAC8B8CF6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leinberg_10F09" descr=""/>
          <p:cNvPicPr/>
          <p:nvPr/>
        </p:nvPicPr>
        <p:blipFill>
          <a:blip r:embed="rId2"/>
          <a:stretch/>
        </p:blipFill>
        <p:spPr>
          <a:xfrm>
            <a:off x="1231920" y="343080"/>
            <a:ext cx="716436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09BC-0963-4100-8405-AA1E76B211B1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kleinberg_10F10" descr=""/>
          <p:cNvPicPr/>
          <p:nvPr/>
        </p:nvPicPr>
        <p:blipFill>
          <a:blip r:embed="rId2"/>
          <a:stretch/>
        </p:blipFill>
        <p:spPr>
          <a:xfrm>
            <a:off x="1155600" y="990720"/>
            <a:ext cx="7467840" cy="465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8A21-0143-4452-A806-55EEF8B585CD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3000" y="774720"/>
            <a:ext cx="7620120" cy="502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8E3B-7759-46BB-B080-E1D33C6ED43A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kleinberg_10a06p593se01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5791320" cy="44496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0.6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Solved Exercise 1, page 59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B369-14D0-4180-9AC7-35BCBAFEF598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kleinberg_10a07p595ex02" descr=""/>
          <p:cNvPicPr/>
          <p:nvPr/>
        </p:nvPicPr>
        <p:blipFill>
          <a:blip r:embed="rId2"/>
          <a:stretch/>
        </p:blipFill>
        <p:spPr>
          <a:xfrm>
            <a:off x="1663560" y="1779480"/>
            <a:ext cx="5639040" cy="4519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0.7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2, page 59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F4EA-D049-4DBA-B0E4-9BCED7D2113B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10a01p556" descr=""/>
          <p:cNvPicPr/>
          <p:nvPr/>
        </p:nvPicPr>
        <p:blipFill>
          <a:blip r:embed="rId2"/>
          <a:stretch/>
        </p:blipFill>
        <p:spPr>
          <a:xfrm>
            <a:off x="1041480" y="2031840"/>
            <a:ext cx="7772400" cy="3835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0.1, page 55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1523-F5FD-4F71-9641-EAC9E3FA6DCE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kleinberg_10F12ex04" descr=""/>
          <p:cNvPicPr/>
          <p:nvPr/>
        </p:nvPicPr>
        <p:blipFill>
          <a:blip r:embed="rId2"/>
          <a:stretch/>
        </p:blipFill>
        <p:spPr>
          <a:xfrm>
            <a:off x="3124080" y="1587600"/>
            <a:ext cx="3338640" cy="4673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4, page 59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E4E7-7B31-49C3-9459-50BF99E72C00}" type="slidenum">
              <a:t>20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leinberg_10a02p559" descr=""/>
          <p:cNvPicPr/>
          <p:nvPr/>
        </p:nvPicPr>
        <p:blipFill>
          <a:blip r:embed="rId2"/>
          <a:stretch/>
        </p:blipFill>
        <p:spPr>
          <a:xfrm>
            <a:off x="990720" y="2108160"/>
            <a:ext cx="7772400" cy="2903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0.2, page 559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92D8-2C0B-4C83-8CDD-85D7272C4CE5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leinberg_10a03p562" descr=""/>
          <p:cNvPicPr/>
          <p:nvPr/>
        </p:nvPicPr>
        <p:blipFill>
          <a:blip r:embed="rId2"/>
          <a:stretch/>
        </p:blipFill>
        <p:spPr>
          <a:xfrm>
            <a:off x="1104840" y="1760400"/>
            <a:ext cx="7772400" cy="4500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0.3, page 56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A471-DA63-485C-AABE-A2680BBBD26D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leinberg_10F01" descr=""/>
          <p:cNvPicPr/>
          <p:nvPr/>
        </p:nvPicPr>
        <p:blipFill>
          <a:blip r:embed="rId2"/>
          <a:stretch/>
        </p:blipFill>
        <p:spPr>
          <a:xfrm>
            <a:off x="1400040" y="266760"/>
            <a:ext cx="674064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301F-99CD-48F8-BBE5-2AE90F1BBB2F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leinberg_10F02" descr=""/>
          <p:cNvPicPr/>
          <p:nvPr/>
        </p:nvPicPr>
        <p:blipFill>
          <a:blip r:embed="rId2"/>
          <a:stretch/>
        </p:blipFill>
        <p:spPr>
          <a:xfrm>
            <a:off x="1079640" y="762120"/>
            <a:ext cx="7772400" cy="484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7D7D-2339-40F1-8F2B-4FBB9FBBCF55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leinberg_10F03" descr=""/>
          <p:cNvPicPr/>
          <p:nvPr/>
        </p:nvPicPr>
        <p:blipFill>
          <a:blip r:embed="rId2"/>
          <a:stretch/>
        </p:blipFill>
        <p:spPr>
          <a:xfrm>
            <a:off x="2330280" y="287280"/>
            <a:ext cx="521352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F51B-9B2B-41A6-AF7E-E4084929DF1C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leinberg_10a04p570" descr=""/>
          <p:cNvPicPr/>
          <p:nvPr/>
        </p:nvPicPr>
        <p:blipFill>
          <a:blip r:embed="rId2"/>
          <a:stretch/>
        </p:blipFill>
        <p:spPr>
          <a:xfrm>
            <a:off x="1041480" y="2278080"/>
            <a:ext cx="7772400" cy="2903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0.4, page 57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68F8-89AD-4B16-9A03-AA75C72D15F8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leinberg_10F04" descr=""/>
          <p:cNvPicPr/>
          <p:nvPr/>
        </p:nvPicPr>
        <p:blipFill>
          <a:blip r:embed="rId2"/>
          <a:stretch/>
        </p:blipFill>
        <p:spPr>
          <a:xfrm>
            <a:off x="1079640" y="1219320"/>
            <a:ext cx="7772400" cy="380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AEACD-586D-408E-8D61-8CB5E4887974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1:45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4T20:21:41Z</dcterms:modified>
  <cp:revision>74</cp:revision>
  <dc:subject/>
  <dc:title>Chapter 1</dc:title>
</cp:coreProperties>
</file>