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304088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08210-CAA5-4B19-8C30-8C82F042D7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759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42640" y="4130640"/>
            <a:ext cx="759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44031-27C9-4CB9-9D87-A7C3A48590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42640" y="413064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36760" y="413064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0169E-C593-4679-81D9-5C5A72F6CB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11960" y="198108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81280" y="198108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42640" y="413064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11960" y="413064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81280" y="413064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87A53-6DB3-45E8-AA1B-31DDB5836E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42640" y="1981080"/>
            <a:ext cx="7599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77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759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142640" y="30456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8c77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142640" y="413064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42640" y="1981080"/>
            <a:ext cx="7599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18628-6EE0-423B-8269-1E5CCD3423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6760" y="413064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42640" y="4130640"/>
            <a:ext cx="759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759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142640" y="4130640"/>
            <a:ext cx="759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42640" y="413064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36760" y="413064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711960" y="198108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1280" y="198108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142640" y="413064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711960" y="413064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281280" y="413064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759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01BDF-3652-408C-B23B-1F9515235F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CC9C4-C5F0-4B56-9153-3E2DAA5A22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1AB36-97FD-4A85-BD37-131B88DD9D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42640" y="30456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CF0A3-0B87-414E-97E9-0AF77C9F85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42640" y="413064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1C916-D9B0-449D-918A-6130EA51A4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36760" y="413064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D695F-9C4D-4C2C-A0C0-A1751F498F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42640" y="4130640"/>
            <a:ext cx="759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D922A-B585-4221-B9DA-1DB2FBE4A6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6121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5 Pearson Addison-Wesley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fld id="{8225EE2B-3074-4954-8924-3F622A31FB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142640" y="1981080"/>
            <a:ext cx="759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11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spcBef>
                <a:spcPts val="11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219280" y="762120"/>
            <a:ext cx="35434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77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c7766"/>
              </a:solidFill>
              <a:latin typeface="Arial"/>
            </a:endParaRPr>
          </a:p>
          <a:p>
            <a:pPr lvl="1" marL="457200" indent="0"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751"/>
              </a:spcBef>
              <a:buClr>
                <a:srgbClr val="000000"/>
              </a:buClr>
              <a:buFont typeface="Time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219280" y="762120"/>
            <a:ext cx="35434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pter 9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5219280" y="1828800"/>
            <a:ext cx="35434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7766"/>
                </a:solidFill>
                <a:latin typeface="Arial"/>
              </a:rPr>
              <a:t>PSPACE: </a:t>
            </a:r>
            <a:br>
              <a:rPr sz="3200"/>
            </a:br>
            <a:r>
              <a:rPr b="0" lang="en-US" sz="3200" spc="-1" strike="noStrike">
                <a:solidFill>
                  <a:srgbClr val="8c7766"/>
                </a:solidFill>
                <a:latin typeface="Arial"/>
              </a:rPr>
              <a:t>A Class </a:t>
            </a:r>
            <a:br>
              <a:rPr sz="3200"/>
            </a:br>
            <a:r>
              <a:rPr b="0" lang="en-US" sz="3200" spc="-1" strike="noStrike">
                <a:solidFill>
                  <a:srgbClr val="8c7766"/>
                </a:solidFill>
                <a:latin typeface="Arial"/>
              </a:rPr>
              <a:t>of Problems beyond NP</a:t>
            </a:r>
            <a:endParaRPr b="0" lang="en-US" sz="3200" spc="-1" strike="noStrike">
              <a:solidFill>
                <a:srgbClr val="8c7766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kleinberg_09F01" descr=""/>
          <p:cNvPicPr/>
          <p:nvPr/>
        </p:nvPicPr>
        <p:blipFill>
          <a:blip r:embed="rId2"/>
          <a:stretch/>
        </p:blipFill>
        <p:spPr>
          <a:xfrm>
            <a:off x="1104840" y="1143000"/>
            <a:ext cx="7620120" cy="4125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EFC31-5A31-4159-8F1E-A054D77B9A7D}" type="slidenum">
              <a:t>2</a:t>
            </a:fld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kleinberg_09a01p537" descr=""/>
          <p:cNvPicPr/>
          <p:nvPr/>
        </p:nvPicPr>
        <p:blipFill>
          <a:blip r:embed="rId2"/>
          <a:stretch/>
        </p:blipFill>
        <p:spPr>
          <a:xfrm>
            <a:off x="1752480" y="1676520"/>
            <a:ext cx="5105520" cy="46465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Algorithm 9.1, page 537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11905-882E-47FD-98F9-40A8C2704F49}" type="slidenum">
              <a:t>3</a:t>
            </a:fld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kleinberg_09a02p542" descr=""/>
          <p:cNvPicPr/>
          <p:nvPr/>
        </p:nvPicPr>
        <p:blipFill>
          <a:blip r:embed="rId2"/>
          <a:stretch/>
        </p:blipFill>
        <p:spPr>
          <a:xfrm>
            <a:off x="1676520" y="1752480"/>
            <a:ext cx="5473440" cy="45626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Algorithm 9.2, page 542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33533-3334-4E64-9FB9-94FF7C98E446}" type="slidenum">
              <a:t>4</a:t>
            </a:fld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kleinberg_09F02" descr=""/>
          <p:cNvPicPr/>
          <p:nvPr/>
        </p:nvPicPr>
        <p:blipFill>
          <a:blip r:embed="rId2"/>
          <a:stretch/>
        </p:blipFill>
        <p:spPr>
          <a:xfrm>
            <a:off x="1193760" y="1371600"/>
            <a:ext cx="7391520" cy="4073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1AAD0-9F9D-4F62-A415-310CD419FA64}" type="slidenum">
              <a:t>5</a:t>
            </a:fld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kleinberg_09F03se01" descr=""/>
          <p:cNvPicPr/>
          <p:nvPr/>
        </p:nvPicPr>
        <p:blipFill>
          <a:blip r:embed="rId2"/>
          <a:stretch/>
        </p:blipFill>
        <p:spPr>
          <a:xfrm>
            <a:off x="3400560" y="355680"/>
            <a:ext cx="5286240" cy="57909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2640" y="457200"/>
            <a:ext cx="3048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Solved Exercise 1, page 548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9152C-A5F4-4CC0-B3CC-6C6DBEE40C3B}" type="slidenum">
              <a:t>6</a:t>
            </a:fld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4T00:11:45Z</dcterms:created>
  <dc:creator>mark temelko</dc:creator>
  <dc:description/>
  <dc:language>en-US</dc:language>
  <cp:lastModifiedBy>mark temelko</cp:lastModifiedBy>
  <cp:lastPrinted>2001-07-20T01:09:35Z</cp:lastPrinted>
  <dcterms:modified xsi:type="dcterms:W3CDTF">2005-03-04T20:20:46Z</dcterms:modified>
  <cp:revision>50</cp:revision>
  <dc:subject/>
  <dc:title>Chapter 1</dc:title>
</cp:coreProperties>
</file>